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839040"/>
            <a:ext cx="78613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520" y="13712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8390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520" y="38390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2531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7360" y="1371240"/>
            <a:ext cx="2531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5240" y="1371240"/>
            <a:ext cx="2531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839040"/>
            <a:ext cx="2531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7360" y="3839040"/>
            <a:ext cx="2531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5240" y="3839040"/>
            <a:ext cx="2531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836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520" y="1371240"/>
            <a:ext cx="3836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520" y="1371240"/>
            <a:ext cx="3836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8390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836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520" y="13712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520" y="38390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520" y="1371240"/>
            <a:ext cx="38361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839040"/>
            <a:ext cx="78613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Click to edit the title text format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4400">
            <a:off x="-360" y="5866920"/>
            <a:ext cx="458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a00"/>
                </a:solidFill>
                <a:latin typeface="Times New Roman"/>
              </a:rPr>
              <a:t>3-</a:t>
            </a:r>
            <a:fld id="{0B13E0A1-6363-48BF-B3C1-D18B5EE2FD78}" type="slidenum">
              <a:rPr b="0" lang="en-GB" sz="1000" spc="-1" strike="noStrike">
                <a:solidFill>
                  <a:srgbClr val="003a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228600"/>
            <a:ext cx="0" cy="586728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915840"/>
            <a:ext cx="822960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725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e2478"/>
                </a:solidFill>
                <a:latin typeface="Times New Roman"/>
              </a:rPr>
              <a:t>Programming with Data Structures</a:t>
            </a:r>
            <a:br>
              <a:rPr sz="3200"/>
            </a:b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0657.208A</a:t>
            </a:r>
            <a:endParaRPr b="0" i="1" lang="en-US" sz="20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120" y="2825280"/>
            <a:ext cx="7861320" cy="349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Pointer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20231400">
            <a:off x="5867640" y="304560"/>
            <a:ext cx="36147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200" spc="-1" strike="noStrike">
                <a:solidFill>
                  <a:srgbClr val="fc0128"/>
                </a:solidFill>
                <a:latin typeface="Comic Sans MS"/>
              </a:rPr>
              <a:t>C++</a:t>
            </a: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19920" y="152280"/>
            <a:ext cx="2874960" cy="2581560"/>
          </a:xfrm>
          <a:custGeom>
            <a:avLst/>
            <a:gdLst/>
            <a:ahLst/>
            <a:rect l="l" t="t" r="r" b="b"/>
            <a:pathLst>
              <a:path w="1811" h="1626">
                <a:moveTo>
                  <a:pt x="1236" y="1464"/>
                </a:moveTo>
                <a:cubicBezTo>
                  <a:pt x="1223" y="1477"/>
                  <a:pt x="1214" y="1494"/>
                  <a:pt x="1200" y="1506"/>
                </a:cubicBezTo>
                <a:cubicBezTo>
                  <a:pt x="1184" y="1519"/>
                  <a:pt x="1163" y="1525"/>
                  <a:pt x="1146" y="1536"/>
                </a:cubicBezTo>
                <a:cubicBezTo>
                  <a:pt x="1045" y="1599"/>
                  <a:pt x="921" y="1611"/>
                  <a:pt x="804" y="1626"/>
                </a:cubicBezTo>
                <a:cubicBezTo>
                  <a:pt x="666" y="1620"/>
                  <a:pt x="517" y="1622"/>
                  <a:pt x="384" y="1578"/>
                </a:cubicBezTo>
                <a:cubicBezTo>
                  <a:pt x="352" y="1567"/>
                  <a:pt x="305" y="1561"/>
                  <a:pt x="276" y="1542"/>
                </a:cubicBezTo>
                <a:cubicBezTo>
                  <a:pt x="224" y="1507"/>
                  <a:pt x="162" y="1483"/>
                  <a:pt x="120" y="1434"/>
                </a:cubicBezTo>
                <a:cubicBezTo>
                  <a:pt x="102" y="1412"/>
                  <a:pt x="111" y="1415"/>
                  <a:pt x="96" y="1386"/>
                </a:cubicBezTo>
                <a:cubicBezTo>
                  <a:pt x="87" y="1369"/>
                  <a:pt x="66" y="1338"/>
                  <a:pt x="66" y="1338"/>
                </a:cubicBezTo>
                <a:cubicBezTo>
                  <a:pt x="60" y="1302"/>
                  <a:pt x="45" y="1276"/>
                  <a:pt x="36" y="1242"/>
                </a:cubicBezTo>
                <a:cubicBezTo>
                  <a:pt x="34" y="1232"/>
                  <a:pt x="33" y="1222"/>
                  <a:pt x="30" y="1212"/>
                </a:cubicBezTo>
                <a:cubicBezTo>
                  <a:pt x="27" y="1200"/>
                  <a:pt x="18" y="1176"/>
                  <a:pt x="18" y="1176"/>
                </a:cubicBezTo>
                <a:cubicBezTo>
                  <a:pt x="14" y="1148"/>
                  <a:pt x="10" y="1120"/>
                  <a:pt x="6" y="1092"/>
                </a:cubicBezTo>
                <a:cubicBezTo>
                  <a:pt x="4" y="1078"/>
                  <a:pt x="0" y="1050"/>
                  <a:pt x="0" y="1050"/>
                </a:cubicBezTo>
                <a:cubicBezTo>
                  <a:pt x="5" y="957"/>
                  <a:pt x="9" y="805"/>
                  <a:pt x="66" y="720"/>
                </a:cubicBezTo>
                <a:cubicBezTo>
                  <a:pt x="89" y="606"/>
                  <a:pt x="54" y="765"/>
                  <a:pt x="84" y="666"/>
                </a:cubicBezTo>
                <a:cubicBezTo>
                  <a:pt x="109" y="584"/>
                  <a:pt x="111" y="498"/>
                  <a:pt x="150" y="420"/>
                </a:cubicBezTo>
                <a:cubicBezTo>
                  <a:pt x="177" y="366"/>
                  <a:pt x="226" y="321"/>
                  <a:pt x="270" y="282"/>
                </a:cubicBezTo>
                <a:cubicBezTo>
                  <a:pt x="278" y="274"/>
                  <a:pt x="287" y="267"/>
                  <a:pt x="294" y="258"/>
                </a:cubicBezTo>
                <a:cubicBezTo>
                  <a:pt x="301" y="250"/>
                  <a:pt x="305" y="241"/>
                  <a:pt x="312" y="234"/>
                </a:cubicBezTo>
                <a:cubicBezTo>
                  <a:pt x="341" y="207"/>
                  <a:pt x="380" y="190"/>
                  <a:pt x="408" y="162"/>
                </a:cubicBezTo>
                <a:cubicBezTo>
                  <a:pt x="413" y="157"/>
                  <a:pt x="414" y="149"/>
                  <a:pt x="420" y="144"/>
                </a:cubicBezTo>
                <a:cubicBezTo>
                  <a:pt x="442" y="126"/>
                  <a:pt x="473" y="114"/>
                  <a:pt x="498" y="102"/>
                </a:cubicBezTo>
                <a:cubicBezTo>
                  <a:pt x="517" y="92"/>
                  <a:pt x="533" y="76"/>
                  <a:pt x="552" y="66"/>
                </a:cubicBezTo>
                <a:cubicBezTo>
                  <a:pt x="640" y="22"/>
                  <a:pt x="744" y="10"/>
                  <a:pt x="840" y="0"/>
                </a:cubicBezTo>
                <a:cubicBezTo>
                  <a:pt x="961" y="3"/>
                  <a:pt x="1071" y="1"/>
                  <a:pt x="1188" y="18"/>
                </a:cubicBezTo>
                <a:cubicBezTo>
                  <a:pt x="1272" y="46"/>
                  <a:pt x="1358" y="60"/>
                  <a:pt x="1440" y="96"/>
                </a:cubicBezTo>
                <a:cubicBezTo>
                  <a:pt x="1491" y="119"/>
                  <a:pt x="1538" y="141"/>
                  <a:pt x="1590" y="162"/>
                </a:cubicBezTo>
                <a:cubicBezTo>
                  <a:pt x="1599" y="166"/>
                  <a:pt x="1605" y="175"/>
                  <a:pt x="1614" y="180"/>
                </a:cubicBezTo>
                <a:cubicBezTo>
                  <a:pt x="1619" y="183"/>
                  <a:pt x="1626" y="184"/>
                  <a:pt x="1632" y="186"/>
                </a:cubicBezTo>
                <a:cubicBezTo>
                  <a:pt x="1658" y="212"/>
                  <a:pt x="1687" y="230"/>
                  <a:pt x="1704" y="264"/>
                </a:cubicBezTo>
                <a:cubicBezTo>
                  <a:pt x="1735" y="326"/>
                  <a:pt x="1757" y="394"/>
                  <a:pt x="1788" y="456"/>
                </a:cubicBezTo>
                <a:cubicBezTo>
                  <a:pt x="1806" y="545"/>
                  <a:pt x="1811" y="645"/>
                  <a:pt x="1782" y="732"/>
                </a:cubicBezTo>
                <a:cubicBezTo>
                  <a:pt x="1772" y="799"/>
                  <a:pt x="1749" y="860"/>
                  <a:pt x="1728" y="924"/>
                </a:cubicBezTo>
                <a:cubicBezTo>
                  <a:pt x="1720" y="947"/>
                  <a:pt x="1716" y="972"/>
                  <a:pt x="1710" y="996"/>
                </a:cubicBezTo>
                <a:cubicBezTo>
                  <a:pt x="1704" y="1018"/>
                  <a:pt x="1695" y="1030"/>
                  <a:pt x="1686" y="1050"/>
                </a:cubicBezTo>
                <a:cubicBezTo>
                  <a:pt x="1668" y="1092"/>
                  <a:pt x="1653" y="1135"/>
                  <a:pt x="1632" y="1176"/>
                </a:cubicBezTo>
                <a:cubicBezTo>
                  <a:pt x="1601" y="1238"/>
                  <a:pt x="1542" y="1284"/>
                  <a:pt x="1494" y="1332"/>
                </a:cubicBezTo>
                <a:cubicBezTo>
                  <a:pt x="1487" y="1339"/>
                  <a:pt x="1484" y="1349"/>
                  <a:pt x="1476" y="1356"/>
                </a:cubicBezTo>
                <a:cubicBezTo>
                  <a:pt x="1469" y="1362"/>
                  <a:pt x="1459" y="1363"/>
                  <a:pt x="1452" y="1368"/>
                </a:cubicBezTo>
                <a:cubicBezTo>
                  <a:pt x="1402" y="1403"/>
                  <a:pt x="1351" y="1437"/>
                  <a:pt x="1296" y="1464"/>
                </a:cubicBezTo>
                <a:cubicBezTo>
                  <a:pt x="1267" y="1479"/>
                  <a:pt x="1237" y="1490"/>
                  <a:pt x="1206" y="1500"/>
                </a:cubicBezTo>
                <a:cubicBezTo>
                  <a:pt x="1202" y="1501"/>
                  <a:pt x="1214" y="1500"/>
                  <a:pt x="1218" y="1500"/>
                </a:cubicBezTo>
              </a:path>
            </a:pathLst>
          </a:custGeom>
          <a:noFill/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Pointers and arrays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n array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is like a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fixed pointer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, always pointing to the first elemen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 pointer can take different addresses as valu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 pointers can be used to access different array element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int *p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int a[] = {10, 22, 20, 15}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 = a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++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220440" y="4468680"/>
            <a:ext cx="1503720" cy="307080"/>
            <a:chOff x="6220440" y="4468680"/>
            <a:chExt cx="1503720" cy="307080"/>
          </a:xfrm>
        </p:grpSpPr>
        <p:sp>
          <p:nvSpPr>
            <p:cNvPr id="256" name=""/>
            <p:cNvSpPr/>
            <p:nvPr/>
          </p:nvSpPr>
          <p:spPr>
            <a:xfrm>
              <a:off x="6220440" y="4468680"/>
              <a:ext cx="36072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01320" y="4468680"/>
              <a:ext cx="36072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82200" y="4468680"/>
              <a:ext cx="36072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63440" y="4468680"/>
              <a:ext cx="36072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048000" y="3743280"/>
            <a:ext cx="162360" cy="685800"/>
            <a:chOff x="6048000" y="3743280"/>
            <a:chExt cx="162360" cy="685800"/>
          </a:xfrm>
        </p:grpSpPr>
        <p:sp>
          <p:nvSpPr>
            <p:cNvPr id="261" name=""/>
            <p:cNvSpPr/>
            <p:nvPr/>
          </p:nvSpPr>
          <p:spPr>
            <a:xfrm>
              <a:off x="6048000" y="3743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24680" y="4010040"/>
              <a:ext cx="85680" cy="41904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5965920" y="4819320"/>
            <a:ext cx="253800" cy="627480"/>
            <a:chOff x="5965920" y="4819320"/>
            <a:chExt cx="253800" cy="627480"/>
          </a:xfrm>
        </p:grpSpPr>
        <p:sp>
          <p:nvSpPr>
            <p:cNvPr id="264" name=""/>
            <p:cNvSpPr/>
            <p:nvPr/>
          </p:nvSpPr>
          <p:spPr>
            <a:xfrm>
              <a:off x="5965920" y="5172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6019920" y="4819320"/>
              <a:ext cx="199800" cy="42876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365880" y="4800240"/>
            <a:ext cx="253800" cy="627480"/>
            <a:chOff x="6365880" y="4800240"/>
            <a:chExt cx="253800" cy="627480"/>
          </a:xfrm>
        </p:grpSpPr>
        <p:sp>
          <p:nvSpPr>
            <p:cNvPr id="267" name=""/>
            <p:cNvSpPr/>
            <p:nvPr/>
          </p:nvSpPr>
          <p:spPr>
            <a:xfrm>
              <a:off x="6365880" y="5153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6419880" y="4800240"/>
              <a:ext cx="199800" cy="42876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6775560" y="4800240"/>
            <a:ext cx="253800" cy="627480"/>
            <a:chOff x="6775560" y="4800240"/>
            <a:chExt cx="253800" cy="627480"/>
          </a:xfrm>
        </p:grpSpPr>
        <p:sp>
          <p:nvSpPr>
            <p:cNvPr id="270" name=""/>
            <p:cNvSpPr/>
            <p:nvPr/>
          </p:nvSpPr>
          <p:spPr>
            <a:xfrm>
              <a:off x="6775560" y="5153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6829560" y="4800240"/>
              <a:ext cx="199800" cy="42876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7137360" y="4800240"/>
            <a:ext cx="253800" cy="627480"/>
            <a:chOff x="7137360" y="4800240"/>
            <a:chExt cx="253800" cy="627480"/>
          </a:xfrm>
        </p:grpSpPr>
        <p:sp>
          <p:nvSpPr>
            <p:cNvPr id="273" name=""/>
            <p:cNvSpPr/>
            <p:nvPr/>
          </p:nvSpPr>
          <p:spPr>
            <a:xfrm>
              <a:off x="7137360" y="5153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7191360" y="4800240"/>
              <a:ext cx="199800" cy="42876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229440" y="3386160"/>
            <a:ext cx="609480" cy="293760"/>
          </a:xfrm>
          <a:prstGeom prst="rect">
            <a:avLst/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224760" y="3857760"/>
            <a:ext cx="609480" cy="29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Pointers and arrays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dding up the elements of an integer array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int a[] = {10, 22, 20, 15}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int i, sum = 0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for (i=0; i &lt;4; i++) 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um += a[i]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220440" y="2878200"/>
            <a:ext cx="1503720" cy="307080"/>
            <a:chOff x="6220440" y="2878200"/>
            <a:chExt cx="1503720" cy="307080"/>
          </a:xfrm>
        </p:grpSpPr>
        <p:sp>
          <p:nvSpPr>
            <p:cNvPr id="280" name=""/>
            <p:cNvSpPr/>
            <p:nvPr/>
          </p:nvSpPr>
          <p:spPr>
            <a:xfrm>
              <a:off x="6220440" y="2878200"/>
              <a:ext cx="36072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601320" y="2878200"/>
              <a:ext cx="36072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82200" y="2878200"/>
              <a:ext cx="36072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363440" y="2878200"/>
              <a:ext cx="36072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048000" y="2152800"/>
            <a:ext cx="162360" cy="685800"/>
            <a:chOff x="6048000" y="2152800"/>
            <a:chExt cx="162360" cy="685800"/>
          </a:xfrm>
        </p:grpSpPr>
        <p:sp>
          <p:nvSpPr>
            <p:cNvPr id="285" name=""/>
            <p:cNvSpPr/>
            <p:nvPr/>
          </p:nvSpPr>
          <p:spPr>
            <a:xfrm>
              <a:off x="6048000" y="2152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24680" y="2419560"/>
              <a:ext cx="85680" cy="41904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6229440" y="3386160"/>
            <a:ext cx="609480" cy="2746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229440" y="3386160"/>
            <a:ext cx="609480" cy="2746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29440" y="3386160"/>
            <a:ext cx="609480" cy="2746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229440" y="3386160"/>
            <a:ext cx="609480" cy="2746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24760" y="3857760"/>
            <a:ext cx="609480" cy="2746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24760" y="3857760"/>
            <a:ext cx="609480" cy="2746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224760" y="3857760"/>
            <a:ext cx="609480" cy="2746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224760" y="3857760"/>
            <a:ext cx="609480" cy="2746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25600" y="32986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14480" y="37274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6205680" y="4191120"/>
            <a:ext cx="609480" cy="2746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Pointers and arrays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dding up the elements of an integer array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int a[] = {10, 22, 20, 15}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int *p, sum = 0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for (p=a; p &lt;=&amp;a[3]; p++) 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um += *p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6220440" y="2878200"/>
            <a:ext cx="1503720" cy="307080"/>
            <a:chOff x="6220440" y="2878200"/>
            <a:chExt cx="1503720" cy="307080"/>
          </a:xfrm>
        </p:grpSpPr>
        <p:sp>
          <p:nvSpPr>
            <p:cNvPr id="301" name=""/>
            <p:cNvSpPr/>
            <p:nvPr/>
          </p:nvSpPr>
          <p:spPr>
            <a:xfrm>
              <a:off x="6220440" y="2878200"/>
              <a:ext cx="36072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01320" y="2878200"/>
              <a:ext cx="36072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82200" y="2878200"/>
              <a:ext cx="36072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363440" y="2878200"/>
              <a:ext cx="36072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6048000" y="2152800"/>
            <a:ext cx="162360" cy="685800"/>
            <a:chOff x="6048000" y="2152800"/>
            <a:chExt cx="162360" cy="685800"/>
          </a:xfrm>
        </p:grpSpPr>
        <p:sp>
          <p:nvSpPr>
            <p:cNvPr id="306" name=""/>
            <p:cNvSpPr/>
            <p:nvPr/>
          </p:nvSpPr>
          <p:spPr>
            <a:xfrm>
              <a:off x="6048000" y="2152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24680" y="2419560"/>
              <a:ext cx="85680" cy="41904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6205680" y="4191120"/>
            <a:ext cx="609480" cy="2746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205680" y="4191120"/>
            <a:ext cx="609480" cy="2746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05680" y="4191120"/>
            <a:ext cx="609480" cy="2746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05680" y="4191120"/>
            <a:ext cx="609480" cy="2746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95120" y="4127400"/>
            <a:ext cx="509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5994360" y="3209400"/>
            <a:ext cx="253800" cy="627480"/>
            <a:chOff x="5994360" y="3209400"/>
            <a:chExt cx="253800" cy="627480"/>
          </a:xfrm>
        </p:grpSpPr>
        <p:sp>
          <p:nvSpPr>
            <p:cNvPr id="314" name=""/>
            <p:cNvSpPr/>
            <p:nvPr/>
          </p:nvSpPr>
          <p:spPr>
            <a:xfrm>
              <a:off x="5994360" y="356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6048360" y="3209400"/>
              <a:ext cx="199800" cy="42876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394320" y="3191040"/>
            <a:ext cx="253800" cy="626760"/>
            <a:chOff x="6394320" y="3191040"/>
            <a:chExt cx="253800" cy="626760"/>
          </a:xfrm>
        </p:grpSpPr>
        <p:sp>
          <p:nvSpPr>
            <p:cNvPr id="317" name=""/>
            <p:cNvSpPr/>
            <p:nvPr/>
          </p:nvSpPr>
          <p:spPr>
            <a:xfrm>
              <a:off x="6394320" y="3543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448320" y="3191040"/>
              <a:ext cx="199800" cy="42840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6804000" y="3191040"/>
            <a:ext cx="253800" cy="626760"/>
            <a:chOff x="6804000" y="3191040"/>
            <a:chExt cx="253800" cy="626760"/>
          </a:xfrm>
        </p:grpSpPr>
        <p:sp>
          <p:nvSpPr>
            <p:cNvPr id="320" name=""/>
            <p:cNvSpPr/>
            <p:nvPr/>
          </p:nvSpPr>
          <p:spPr>
            <a:xfrm>
              <a:off x="6804000" y="3543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6858000" y="3191040"/>
              <a:ext cx="199800" cy="42840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7165800" y="3191040"/>
            <a:ext cx="253800" cy="626760"/>
            <a:chOff x="7165800" y="3191040"/>
            <a:chExt cx="253800" cy="626760"/>
          </a:xfrm>
        </p:grpSpPr>
        <p:sp>
          <p:nvSpPr>
            <p:cNvPr id="323" name=""/>
            <p:cNvSpPr/>
            <p:nvPr/>
          </p:nvSpPr>
          <p:spPr>
            <a:xfrm>
              <a:off x="7165800" y="3543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7219800" y="3191040"/>
              <a:ext cx="199800" cy="42840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205680" y="4533840"/>
            <a:ext cx="609480" cy="2746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Pointers and arrays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dding up the elements of an integer array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int a[] = {10, 22, 20, 15}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int i, sum = 0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for (i=0; i &lt;4; i ++) 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um += *(a+i)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220440" y="2878200"/>
            <a:ext cx="1503720" cy="307080"/>
            <a:chOff x="6220440" y="2878200"/>
            <a:chExt cx="1503720" cy="307080"/>
          </a:xfrm>
        </p:grpSpPr>
        <p:sp>
          <p:nvSpPr>
            <p:cNvPr id="329" name=""/>
            <p:cNvSpPr/>
            <p:nvPr/>
          </p:nvSpPr>
          <p:spPr>
            <a:xfrm>
              <a:off x="6220440" y="2878200"/>
              <a:ext cx="36072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601320" y="2878200"/>
              <a:ext cx="36072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982200" y="2878200"/>
              <a:ext cx="36072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63440" y="2878200"/>
              <a:ext cx="36072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048000" y="2152800"/>
            <a:ext cx="162360" cy="685800"/>
            <a:chOff x="6048000" y="2152800"/>
            <a:chExt cx="162360" cy="685800"/>
          </a:xfrm>
        </p:grpSpPr>
        <p:sp>
          <p:nvSpPr>
            <p:cNvPr id="334" name=""/>
            <p:cNvSpPr/>
            <p:nvPr/>
          </p:nvSpPr>
          <p:spPr>
            <a:xfrm>
              <a:off x="6048000" y="2152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124680" y="2419560"/>
              <a:ext cx="85680" cy="41904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6205680" y="4533840"/>
            <a:ext cx="609480" cy="2746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05680" y="4533840"/>
            <a:ext cx="609480" cy="2746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05680" y="4533840"/>
            <a:ext cx="609480" cy="2746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05680" y="4533840"/>
            <a:ext cx="609480" cy="2746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595120" y="4470480"/>
            <a:ext cx="509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5919840" y="3209400"/>
            <a:ext cx="328680" cy="620280"/>
            <a:chOff x="5919840" y="3209400"/>
            <a:chExt cx="328680" cy="620280"/>
          </a:xfrm>
        </p:grpSpPr>
        <p:sp>
          <p:nvSpPr>
            <p:cNvPr id="342" name=""/>
            <p:cNvSpPr/>
            <p:nvPr/>
          </p:nvSpPr>
          <p:spPr>
            <a:xfrm>
              <a:off x="5919840" y="3585960"/>
              <a:ext cx="27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+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6048720" y="3209400"/>
              <a:ext cx="199800" cy="42876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319800" y="3190680"/>
            <a:ext cx="328680" cy="620280"/>
            <a:chOff x="6319800" y="3190680"/>
            <a:chExt cx="328680" cy="620280"/>
          </a:xfrm>
        </p:grpSpPr>
        <p:sp>
          <p:nvSpPr>
            <p:cNvPr id="345" name=""/>
            <p:cNvSpPr/>
            <p:nvPr/>
          </p:nvSpPr>
          <p:spPr>
            <a:xfrm>
              <a:off x="6319800" y="3567240"/>
              <a:ext cx="27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+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448680" y="3190680"/>
              <a:ext cx="199800" cy="42876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729480" y="3190680"/>
            <a:ext cx="328680" cy="620280"/>
            <a:chOff x="6729480" y="3190680"/>
            <a:chExt cx="328680" cy="620280"/>
          </a:xfrm>
        </p:grpSpPr>
        <p:sp>
          <p:nvSpPr>
            <p:cNvPr id="348" name=""/>
            <p:cNvSpPr/>
            <p:nvPr/>
          </p:nvSpPr>
          <p:spPr>
            <a:xfrm>
              <a:off x="6729480" y="3567240"/>
              <a:ext cx="27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+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6858360" y="3190680"/>
              <a:ext cx="199800" cy="42876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7091280" y="3190680"/>
            <a:ext cx="328680" cy="620280"/>
            <a:chOff x="7091280" y="3190680"/>
            <a:chExt cx="328680" cy="620280"/>
          </a:xfrm>
        </p:grpSpPr>
        <p:sp>
          <p:nvSpPr>
            <p:cNvPr id="351" name=""/>
            <p:cNvSpPr/>
            <p:nvPr/>
          </p:nvSpPr>
          <p:spPr>
            <a:xfrm>
              <a:off x="7091280" y="3567240"/>
              <a:ext cx="27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+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220160" y="3190680"/>
              <a:ext cx="199800" cy="42876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6210360" y="4081320"/>
            <a:ext cx="609480" cy="293760"/>
          </a:xfrm>
          <a:prstGeom prst="rect">
            <a:avLst/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210360" y="4081320"/>
            <a:ext cx="609480" cy="2746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210360" y="4081320"/>
            <a:ext cx="609480" cy="2746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10360" y="4081320"/>
            <a:ext cx="609480" cy="2746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210360" y="4081320"/>
            <a:ext cx="609480" cy="2746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906520" y="39942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6205680" y="4533840"/>
            <a:ext cx="609480" cy="2746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Pointers and arrays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dding up the elements of an integer array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int a[] = {10, 22, 20, 15}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int *p, i, sum = 0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 = a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for (i=0; i &lt;4; i++) 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um += p[i]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220440" y="2878200"/>
            <a:ext cx="1503720" cy="307080"/>
            <a:chOff x="6220440" y="2878200"/>
            <a:chExt cx="1503720" cy="307080"/>
          </a:xfrm>
        </p:grpSpPr>
        <p:sp>
          <p:nvSpPr>
            <p:cNvPr id="363" name=""/>
            <p:cNvSpPr/>
            <p:nvPr/>
          </p:nvSpPr>
          <p:spPr>
            <a:xfrm>
              <a:off x="6220440" y="2878200"/>
              <a:ext cx="36072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01320" y="2878200"/>
              <a:ext cx="36072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82200" y="2878200"/>
              <a:ext cx="36072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63440" y="2878200"/>
              <a:ext cx="36072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048000" y="2152800"/>
            <a:ext cx="162360" cy="685800"/>
            <a:chOff x="6048000" y="2152800"/>
            <a:chExt cx="162360" cy="685800"/>
          </a:xfrm>
        </p:grpSpPr>
        <p:sp>
          <p:nvSpPr>
            <p:cNvPr id="368" name=""/>
            <p:cNvSpPr/>
            <p:nvPr/>
          </p:nvSpPr>
          <p:spPr>
            <a:xfrm>
              <a:off x="6048000" y="2152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124680" y="2419560"/>
              <a:ext cx="85680" cy="41904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6205680" y="4533840"/>
            <a:ext cx="609480" cy="2746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205680" y="4533840"/>
            <a:ext cx="609480" cy="2746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05680" y="4533840"/>
            <a:ext cx="609480" cy="2746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205680" y="4533840"/>
            <a:ext cx="609480" cy="2746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595120" y="4470480"/>
            <a:ext cx="509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5965920" y="3209400"/>
            <a:ext cx="253800" cy="627480"/>
            <a:chOff x="5965920" y="3209400"/>
            <a:chExt cx="253800" cy="627480"/>
          </a:xfrm>
        </p:grpSpPr>
        <p:sp>
          <p:nvSpPr>
            <p:cNvPr id="376" name=""/>
            <p:cNvSpPr/>
            <p:nvPr/>
          </p:nvSpPr>
          <p:spPr>
            <a:xfrm>
              <a:off x="5965920" y="356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019920" y="3209400"/>
              <a:ext cx="199800" cy="428760"/>
            </a:xfrm>
            <a:prstGeom prst="line">
              <a:avLst/>
            </a:prstGeom>
            <a:ln w="1908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6210360" y="4081320"/>
            <a:ext cx="609480" cy="293760"/>
          </a:xfrm>
          <a:prstGeom prst="rect">
            <a:avLst/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210360" y="4081320"/>
            <a:ext cx="609480" cy="2746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10360" y="4081320"/>
            <a:ext cx="609480" cy="2746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10360" y="4081320"/>
            <a:ext cx="609480" cy="2746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210360" y="4081320"/>
            <a:ext cx="609480" cy="2746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906520" y="39942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Pointers and strings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12400" indent="-2124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 string can be implemented as a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fixed array of characters using the array construc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ynamically linked sequence of characters using pointer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212400" indent="0">
              <a:spcBef>
                <a:spcPts val="40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212400" indent="-2124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 string using an array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har string[] = “Hello”;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null character is added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har string[] = {‘H’, ‘e’, ‘l’, ‘l’, ‘o’, ‘\0’};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null character must be added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212400" indent="0">
              <a:spcBef>
                <a:spcPts val="40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212400" indent="-2124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 string using a pointer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har *string = “Hello”;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null character is added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690840" indent="0">
              <a:spcBef>
                <a:spcPts val="400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212400" indent="-2124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n array has a fixed length which cannot be changed (wasted memory)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12400" indent="0">
              <a:spcBef>
                <a:spcPts val="40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212400" indent="-2124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Pointers are dynamic, allowing storage of different length string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Static or dynamic?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If you require an amount of memory whose size can be calculated and which will not change then use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static memory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alloca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r example, to read and process a text file: 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get the file size; allocate an array; 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read the file;  do whatev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If you require an amount of memory which increases and decreases then use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dynamic memory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alloca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r example, a graphic editor: 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allocates  memory structure by structure and keeps track of locations by linking structures togeth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Next lecture…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71440" y="2085840"/>
            <a:ext cx="1200240" cy="543240"/>
          </a:xfrm>
          <a:prstGeom prst="rect">
            <a:avLst/>
          </a:prstGeom>
          <a:solidFill>
            <a:srgbClr val="800000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33520" y="3219480"/>
            <a:ext cx="1200240" cy="542880"/>
          </a:xfrm>
          <a:prstGeom prst="rect">
            <a:avLst/>
          </a:prstGeom>
          <a:solidFill>
            <a:srgbClr val="00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676760" y="2590920"/>
            <a:ext cx="1200240" cy="542880"/>
          </a:xfrm>
          <a:prstGeom prst="rect">
            <a:avLst/>
          </a:prstGeom>
          <a:solidFill>
            <a:srgbClr val="2e2478"/>
          </a:solidFill>
          <a:ln w="12600">
            <a:solidFill>
              <a:srgbClr val="2e24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762440" y="4924440"/>
            <a:ext cx="1200240" cy="5428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781680" y="3238560"/>
            <a:ext cx="1200240" cy="542880"/>
          </a:xfrm>
          <a:prstGeom prst="rect">
            <a:avLst/>
          </a:prstGeom>
          <a:solidFill>
            <a:srgbClr val="618ffd"/>
          </a:solidFill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924520" y="1295280"/>
            <a:ext cx="1200240" cy="5428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52600" y="2619360"/>
            <a:ext cx="704880" cy="6094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33760" y="3781440"/>
            <a:ext cx="1523880" cy="11430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5162040" y="3152880"/>
            <a:ext cx="800280" cy="179064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877000" y="3133800"/>
            <a:ext cx="923760" cy="41904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 flipV="1">
            <a:off x="6505200" y="1838160"/>
            <a:ext cx="847800" cy="14004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1181160"/>
            <a:ext cx="3854520" cy="49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Can use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*p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like an ordinary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int *p,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 = new i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*p = 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x = *p + 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Pointers and variables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619600" y="1308240"/>
            <a:ext cx="2743200" cy="4787640"/>
            <a:chOff x="5619600" y="1308240"/>
            <a:chExt cx="2743200" cy="4787640"/>
          </a:xfrm>
        </p:grpSpPr>
        <p:sp>
          <p:nvSpPr>
            <p:cNvPr id="48" name=""/>
            <p:cNvSpPr/>
            <p:nvPr/>
          </p:nvSpPr>
          <p:spPr>
            <a:xfrm>
              <a:off x="5626080" y="1308240"/>
              <a:ext cx="2730600" cy="4787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683680" y="5611680"/>
              <a:ext cx="1861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Global varia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619600" y="3759120"/>
              <a:ext cx="2743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667480" y="1349280"/>
              <a:ext cx="2635200" cy="2365560"/>
            </a:xfrm>
            <a:prstGeom prst="rect">
              <a:avLst/>
            </a:prstGeom>
            <a:solidFill>
              <a:srgbClr val="8caeec"/>
            </a:solidFill>
            <a:ln w="28440">
              <a:solidFill>
                <a:srgbClr val="8cae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676840" y="1371600"/>
              <a:ext cx="18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He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7839000" y="2381400"/>
            <a:ext cx="109440" cy="1999800"/>
            <a:chOff x="7839000" y="2381400"/>
            <a:chExt cx="109440" cy="1999800"/>
          </a:xfrm>
        </p:grpSpPr>
        <p:sp>
          <p:nvSpPr>
            <p:cNvPr id="54" name=""/>
            <p:cNvSpPr/>
            <p:nvPr/>
          </p:nvSpPr>
          <p:spPr>
            <a:xfrm>
              <a:off x="7839000" y="2441880"/>
              <a:ext cx="109440" cy="1939320"/>
            </a:xfrm>
            <a:custGeom>
              <a:avLst/>
              <a:gdLst/>
              <a:ahLst/>
              <a:rect l="l" t="t" r="r" b="b"/>
              <a:pathLst>
                <a:path w="177" h="1026">
                  <a:moveTo>
                    <a:pt x="0" y="1026"/>
                  </a:moveTo>
                  <a:cubicBezTo>
                    <a:pt x="22" y="1011"/>
                    <a:pt x="35" y="991"/>
                    <a:pt x="54" y="972"/>
                  </a:cubicBezTo>
                  <a:cubicBezTo>
                    <a:pt x="71" y="922"/>
                    <a:pt x="43" y="1001"/>
                    <a:pt x="84" y="918"/>
                  </a:cubicBezTo>
                  <a:cubicBezTo>
                    <a:pt x="95" y="896"/>
                    <a:pt x="99" y="874"/>
                    <a:pt x="114" y="852"/>
                  </a:cubicBezTo>
                  <a:cubicBezTo>
                    <a:pt x="120" y="828"/>
                    <a:pt x="131" y="809"/>
                    <a:pt x="138" y="786"/>
                  </a:cubicBezTo>
                  <a:cubicBezTo>
                    <a:pt x="146" y="756"/>
                    <a:pt x="149" y="726"/>
                    <a:pt x="156" y="696"/>
                  </a:cubicBezTo>
                  <a:cubicBezTo>
                    <a:pt x="168" y="542"/>
                    <a:pt x="177" y="345"/>
                    <a:pt x="126" y="192"/>
                  </a:cubicBezTo>
                  <a:cubicBezTo>
                    <a:pt x="118" y="132"/>
                    <a:pt x="117" y="55"/>
                    <a:pt x="90" y="0"/>
                  </a:cubicBezTo>
                </a:path>
              </a:pathLst>
            </a:custGeom>
            <a:noFill/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87240" y="2381400"/>
              <a:ext cx="14760" cy="19296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7496280" y="2162160"/>
            <a:ext cx="676080" cy="200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619360" y="2428920"/>
            <a:ext cx="75240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619360" y="2733840"/>
            <a:ext cx="75240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619360" y="3048120"/>
            <a:ext cx="75240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62640" y="4248000"/>
            <a:ext cx="928800" cy="368280"/>
            <a:chOff x="7262640" y="4248000"/>
            <a:chExt cx="928800" cy="368280"/>
          </a:xfrm>
        </p:grpSpPr>
        <p:sp>
          <p:nvSpPr>
            <p:cNvPr id="61" name=""/>
            <p:cNvSpPr/>
            <p:nvPr/>
          </p:nvSpPr>
          <p:spPr>
            <a:xfrm>
              <a:off x="7262640" y="4248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515360" y="4371840"/>
              <a:ext cx="676080" cy="200160"/>
            </a:xfrm>
            <a:prstGeom prst="rect">
              <a:avLst/>
            </a:prstGeom>
            <a:solidFill>
              <a:srgbClr val="8caeec"/>
            </a:solidFill>
            <a:ln w="12600">
              <a:solidFill>
                <a:srgbClr val="8cae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 flipH="1">
            <a:off x="2619360" y="3371760"/>
            <a:ext cx="75240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45680" y="2128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49200" y="433872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9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00760" y="20667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9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272360" y="4724280"/>
            <a:ext cx="928800" cy="368280"/>
            <a:chOff x="7272360" y="4724280"/>
            <a:chExt cx="928800" cy="368280"/>
          </a:xfrm>
        </p:grpSpPr>
        <p:sp>
          <p:nvSpPr>
            <p:cNvPr id="68" name=""/>
            <p:cNvSpPr/>
            <p:nvPr/>
          </p:nvSpPr>
          <p:spPr>
            <a:xfrm>
              <a:off x="7272360" y="4724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525080" y="4848120"/>
              <a:ext cx="676080" cy="200160"/>
            </a:xfrm>
            <a:prstGeom prst="rect">
              <a:avLst/>
            </a:prstGeom>
            <a:solidFill>
              <a:srgbClr val="8caeec"/>
            </a:solidFill>
            <a:ln w="12600">
              <a:solidFill>
                <a:srgbClr val="8cae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7687080" y="4815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09480" y="1181160"/>
            <a:ext cx="3854520" cy="49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Every variable is stored in a memory location with an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The address of a variable can be accessed using the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&amp;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int *p, x,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x = 2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 = &amp;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y =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Pointers and variables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619600" y="1308240"/>
            <a:ext cx="2743200" cy="4787640"/>
            <a:chOff x="5619600" y="1308240"/>
            <a:chExt cx="2743200" cy="4787640"/>
          </a:xfrm>
        </p:grpSpPr>
        <p:sp>
          <p:nvSpPr>
            <p:cNvPr id="74" name=""/>
            <p:cNvSpPr/>
            <p:nvPr/>
          </p:nvSpPr>
          <p:spPr>
            <a:xfrm>
              <a:off x="5626080" y="1308240"/>
              <a:ext cx="2730600" cy="4787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683680" y="5611680"/>
              <a:ext cx="1861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Global varia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619600" y="3759120"/>
              <a:ext cx="2743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667480" y="1349280"/>
              <a:ext cx="2635200" cy="2365560"/>
            </a:xfrm>
            <a:prstGeom prst="rect">
              <a:avLst/>
            </a:prstGeom>
            <a:solidFill>
              <a:srgbClr val="8caeec"/>
            </a:solidFill>
            <a:ln w="28440">
              <a:solidFill>
                <a:srgbClr val="8cae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676840" y="1371600"/>
              <a:ext cx="18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He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 flipH="1">
            <a:off x="2619360" y="3448080"/>
            <a:ext cx="75240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619360" y="3753000"/>
            <a:ext cx="75240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619360" y="4057560"/>
            <a:ext cx="75240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7262640" y="4248000"/>
            <a:ext cx="928800" cy="368280"/>
            <a:chOff x="7262640" y="4248000"/>
            <a:chExt cx="928800" cy="368280"/>
          </a:xfrm>
        </p:grpSpPr>
        <p:sp>
          <p:nvSpPr>
            <p:cNvPr id="83" name=""/>
            <p:cNvSpPr/>
            <p:nvPr/>
          </p:nvSpPr>
          <p:spPr>
            <a:xfrm>
              <a:off x="7262640" y="4248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15360" y="4371840"/>
              <a:ext cx="676080" cy="200160"/>
            </a:xfrm>
            <a:prstGeom prst="rect">
              <a:avLst/>
            </a:prstGeom>
            <a:solidFill>
              <a:srgbClr val="8caeec"/>
            </a:solidFill>
            <a:ln w="12600">
              <a:solidFill>
                <a:srgbClr val="8cae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 flipH="1">
            <a:off x="2619360" y="4410000"/>
            <a:ext cx="75240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272360" y="4724280"/>
            <a:ext cx="928800" cy="368280"/>
            <a:chOff x="7272360" y="4724280"/>
            <a:chExt cx="928800" cy="368280"/>
          </a:xfrm>
        </p:grpSpPr>
        <p:sp>
          <p:nvSpPr>
            <p:cNvPr id="87" name=""/>
            <p:cNvSpPr/>
            <p:nvPr/>
          </p:nvSpPr>
          <p:spPr>
            <a:xfrm>
              <a:off x="7272360" y="4724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25080" y="4848120"/>
              <a:ext cx="676080" cy="200160"/>
            </a:xfrm>
            <a:prstGeom prst="rect">
              <a:avLst/>
            </a:prstGeom>
            <a:solidFill>
              <a:srgbClr val="8caeec"/>
            </a:solidFill>
            <a:ln w="12600">
              <a:solidFill>
                <a:srgbClr val="8cae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7272360" y="5162400"/>
            <a:ext cx="928800" cy="368280"/>
            <a:chOff x="7272360" y="5162400"/>
            <a:chExt cx="928800" cy="368280"/>
          </a:xfrm>
        </p:grpSpPr>
        <p:sp>
          <p:nvSpPr>
            <p:cNvPr id="90" name=""/>
            <p:cNvSpPr/>
            <p:nvPr/>
          </p:nvSpPr>
          <p:spPr>
            <a:xfrm>
              <a:off x="7272360" y="5162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25080" y="5286240"/>
              <a:ext cx="676080" cy="200160"/>
            </a:xfrm>
            <a:prstGeom prst="rect">
              <a:avLst/>
            </a:prstGeom>
            <a:solidFill>
              <a:srgbClr val="8caeec"/>
            </a:solidFill>
            <a:ln w="12600">
              <a:solidFill>
                <a:srgbClr val="8cae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7539480" y="432900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8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42080" y="48150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61160" y="526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00640" y="47624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8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77080" y="4943520"/>
            <a:ext cx="447480" cy="0"/>
          </a:xfrm>
          <a:prstGeom prst="line">
            <a:avLst/>
          </a:prstGeom>
          <a:ln w="1908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209080" y="4475160"/>
            <a:ext cx="455400" cy="500040"/>
            <a:chOff x="8209080" y="4475160"/>
            <a:chExt cx="455400" cy="500040"/>
          </a:xfrm>
        </p:grpSpPr>
        <p:sp>
          <p:nvSpPr>
            <p:cNvPr id="98" name=""/>
            <p:cNvSpPr/>
            <p:nvPr/>
          </p:nvSpPr>
          <p:spPr>
            <a:xfrm>
              <a:off x="8245440" y="4475160"/>
              <a:ext cx="419040" cy="500040"/>
            </a:xfrm>
            <a:custGeom>
              <a:avLst/>
              <a:gdLst/>
              <a:ahLst/>
              <a:rect l="l" t="t" r="r" b="b"/>
              <a:pathLst>
                <a:path w="304" h="393">
                  <a:moveTo>
                    <a:pt x="24" y="13"/>
                  </a:moveTo>
                  <a:cubicBezTo>
                    <a:pt x="112" y="6"/>
                    <a:pt x="200" y="0"/>
                    <a:pt x="240" y="55"/>
                  </a:cubicBezTo>
                  <a:cubicBezTo>
                    <a:pt x="280" y="110"/>
                    <a:pt x="304" y="293"/>
                    <a:pt x="264" y="343"/>
                  </a:cubicBezTo>
                  <a:cubicBezTo>
                    <a:pt x="224" y="393"/>
                    <a:pt x="44" y="353"/>
                    <a:pt x="0" y="355"/>
                  </a:cubicBezTo>
                </a:path>
              </a:pathLst>
            </a:custGeom>
            <a:noFill/>
            <a:ln w="381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8210520" y="4484520"/>
              <a:ext cx="123840" cy="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8209080" y="4924440"/>
              <a:ext cx="123840" cy="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1044720" y="4927680"/>
            <a:ext cx="1095120" cy="39888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urier New"/>
              </a:rPr>
              <a:t>y =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1181160"/>
            <a:ext cx="3854520" cy="49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Variables can be accessed indirectly using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int *p, *q,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x = 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 = &amp;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q = 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x = *q + 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*p = x + 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(*q)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Pointers and variables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619600" y="1308240"/>
            <a:ext cx="2743200" cy="4787640"/>
            <a:chOff x="5619600" y="1308240"/>
            <a:chExt cx="2743200" cy="4787640"/>
          </a:xfrm>
        </p:grpSpPr>
        <p:sp>
          <p:nvSpPr>
            <p:cNvPr id="105" name=""/>
            <p:cNvSpPr/>
            <p:nvPr/>
          </p:nvSpPr>
          <p:spPr>
            <a:xfrm>
              <a:off x="5626080" y="1308240"/>
              <a:ext cx="2730600" cy="4787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83680" y="5611680"/>
              <a:ext cx="1861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Global varia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19600" y="3759120"/>
              <a:ext cx="2743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67480" y="1349280"/>
              <a:ext cx="2635200" cy="2365560"/>
            </a:xfrm>
            <a:prstGeom prst="rect">
              <a:avLst/>
            </a:prstGeom>
            <a:solidFill>
              <a:srgbClr val="8caeec"/>
            </a:solidFill>
            <a:ln w="28440">
              <a:solidFill>
                <a:srgbClr val="8cae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6840" y="1371600"/>
              <a:ext cx="18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He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 flipH="1">
            <a:off x="2619360" y="2448000"/>
            <a:ext cx="75240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619360" y="2752560"/>
            <a:ext cx="75240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619360" y="3057480"/>
            <a:ext cx="75240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262640" y="4248000"/>
            <a:ext cx="928800" cy="368280"/>
            <a:chOff x="7262640" y="4248000"/>
            <a:chExt cx="928800" cy="368280"/>
          </a:xfrm>
        </p:grpSpPr>
        <p:sp>
          <p:nvSpPr>
            <p:cNvPr id="114" name=""/>
            <p:cNvSpPr/>
            <p:nvPr/>
          </p:nvSpPr>
          <p:spPr>
            <a:xfrm>
              <a:off x="7262640" y="4248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5360" y="4371840"/>
              <a:ext cx="676080" cy="200160"/>
            </a:xfrm>
            <a:prstGeom prst="rect">
              <a:avLst/>
            </a:prstGeom>
            <a:solidFill>
              <a:srgbClr val="8caeec"/>
            </a:solidFill>
            <a:ln w="12600">
              <a:solidFill>
                <a:srgbClr val="8cae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2619360" y="3409920"/>
            <a:ext cx="75240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7272360" y="4724280"/>
            <a:ext cx="928800" cy="368280"/>
            <a:chOff x="7272360" y="4724280"/>
            <a:chExt cx="928800" cy="368280"/>
          </a:xfrm>
        </p:grpSpPr>
        <p:sp>
          <p:nvSpPr>
            <p:cNvPr id="118" name=""/>
            <p:cNvSpPr/>
            <p:nvPr/>
          </p:nvSpPr>
          <p:spPr>
            <a:xfrm>
              <a:off x="7272360" y="4724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25080" y="4848120"/>
              <a:ext cx="676080" cy="200160"/>
            </a:xfrm>
            <a:prstGeom prst="rect">
              <a:avLst/>
            </a:prstGeom>
            <a:solidFill>
              <a:srgbClr val="8caeec"/>
            </a:solidFill>
            <a:ln w="12600">
              <a:solidFill>
                <a:srgbClr val="8cae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272360" y="5162400"/>
            <a:ext cx="928800" cy="368280"/>
            <a:chOff x="7272360" y="5162400"/>
            <a:chExt cx="928800" cy="368280"/>
          </a:xfrm>
        </p:grpSpPr>
        <p:sp>
          <p:nvSpPr>
            <p:cNvPr id="121" name=""/>
            <p:cNvSpPr/>
            <p:nvPr/>
          </p:nvSpPr>
          <p:spPr>
            <a:xfrm>
              <a:off x="7272360" y="5162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25080" y="5286240"/>
              <a:ext cx="676080" cy="200160"/>
            </a:xfrm>
            <a:prstGeom prst="rect">
              <a:avLst/>
            </a:prstGeom>
            <a:solidFill>
              <a:srgbClr val="8caeec"/>
            </a:solidFill>
            <a:ln w="12600">
              <a:solidFill>
                <a:srgbClr val="8cae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7539480" y="432900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8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85280" y="4815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79080" y="526248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8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00640" y="47624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8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77080" y="4943520"/>
            <a:ext cx="447480" cy="0"/>
          </a:xfrm>
          <a:prstGeom prst="line">
            <a:avLst/>
          </a:prstGeom>
          <a:ln w="1908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8209080" y="4398840"/>
            <a:ext cx="455400" cy="500040"/>
            <a:chOff x="8209080" y="4398840"/>
            <a:chExt cx="455400" cy="500040"/>
          </a:xfrm>
        </p:grpSpPr>
        <p:sp>
          <p:nvSpPr>
            <p:cNvPr id="129" name=""/>
            <p:cNvSpPr/>
            <p:nvPr/>
          </p:nvSpPr>
          <p:spPr>
            <a:xfrm>
              <a:off x="8245440" y="4398840"/>
              <a:ext cx="419040" cy="500040"/>
            </a:xfrm>
            <a:custGeom>
              <a:avLst/>
              <a:gdLst/>
              <a:ahLst/>
              <a:rect l="l" t="t" r="r" b="b"/>
              <a:pathLst>
                <a:path w="304" h="393">
                  <a:moveTo>
                    <a:pt x="24" y="13"/>
                  </a:moveTo>
                  <a:cubicBezTo>
                    <a:pt x="112" y="6"/>
                    <a:pt x="200" y="0"/>
                    <a:pt x="240" y="55"/>
                  </a:cubicBezTo>
                  <a:cubicBezTo>
                    <a:pt x="280" y="110"/>
                    <a:pt x="304" y="293"/>
                    <a:pt x="264" y="343"/>
                  </a:cubicBezTo>
                  <a:cubicBezTo>
                    <a:pt x="224" y="393"/>
                    <a:pt x="44" y="353"/>
                    <a:pt x="0" y="355"/>
                  </a:cubicBezTo>
                </a:path>
              </a:pathLst>
            </a:custGeom>
            <a:noFill/>
            <a:ln w="381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8210520" y="4408200"/>
              <a:ext cx="123840" cy="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8209080" y="4848120"/>
              <a:ext cx="123840" cy="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 flipH="1">
            <a:off x="2619360" y="3714840"/>
            <a:ext cx="75240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619360" y="4057560"/>
            <a:ext cx="75240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619360" y="4400640"/>
            <a:ext cx="75240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8199360" y="4998960"/>
            <a:ext cx="455400" cy="500040"/>
            <a:chOff x="8199360" y="4998960"/>
            <a:chExt cx="455400" cy="500040"/>
          </a:xfrm>
        </p:grpSpPr>
        <p:sp>
          <p:nvSpPr>
            <p:cNvPr id="136" name=""/>
            <p:cNvSpPr/>
            <p:nvPr/>
          </p:nvSpPr>
          <p:spPr>
            <a:xfrm>
              <a:off x="8235720" y="4998960"/>
              <a:ext cx="419040" cy="500040"/>
            </a:xfrm>
            <a:custGeom>
              <a:avLst/>
              <a:gdLst/>
              <a:ahLst/>
              <a:rect l="l" t="t" r="r" b="b"/>
              <a:pathLst>
                <a:path w="304" h="393">
                  <a:moveTo>
                    <a:pt x="24" y="13"/>
                  </a:moveTo>
                  <a:cubicBezTo>
                    <a:pt x="112" y="6"/>
                    <a:pt x="200" y="0"/>
                    <a:pt x="240" y="55"/>
                  </a:cubicBezTo>
                  <a:cubicBezTo>
                    <a:pt x="280" y="110"/>
                    <a:pt x="304" y="293"/>
                    <a:pt x="264" y="343"/>
                  </a:cubicBezTo>
                  <a:cubicBezTo>
                    <a:pt x="224" y="393"/>
                    <a:pt x="44" y="353"/>
                    <a:pt x="0" y="355"/>
                  </a:cubicBezTo>
                </a:path>
              </a:pathLst>
            </a:custGeom>
            <a:noFill/>
            <a:ln w="38160">
              <a:solidFill>
                <a:srgbClr val="2e24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8200800" y="5008320"/>
              <a:ext cx="123840" cy="0"/>
            </a:xfrm>
            <a:prstGeom prst="line">
              <a:avLst/>
            </a:prstGeom>
            <a:ln w="38160">
              <a:solidFill>
                <a:srgbClr val="2e24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8199360" y="5448240"/>
              <a:ext cx="123840" cy="0"/>
            </a:xfrm>
            <a:prstGeom prst="line">
              <a:avLst/>
            </a:prstGeom>
            <a:ln w="38160">
              <a:solidFill>
                <a:srgbClr val="2e24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7666200" y="4853160"/>
            <a:ext cx="352440" cy="182880"/>
          </a:xfrm>
          <a:prstGeom prst="rect">
            <a:avLst/>
          </a:prstGeom>
          <a:solidFill>
            <a:srgbClr val="8caeec"/>
          </a:solidFill>
          <a:ln w="12600">
            <a:solidFill>
              <a:srgbClr val="8cae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775640" y="4853160"/>
            <a:ext cx="171360" cy="182880"/>
          </a:xfrm>
          <a:prstGeom prst="rect">
            <a:avLst/>
          </a:prstGeom>
          <a:solidFill>
            <a:srgbClr val="8caeec"/>
          </a:solidFill>
          <a:ln w="12600">
            <a:solidFill>
              <a:srgbClr val="8cae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785000" y="4853160"/>
            <a:ext cx="171360" cy="182880"/>
          </a:xfrm>
          <a:prstGeom prst="rect">
            <a:avLst/>
          </a:prstGeom>
          <a:solidFill>
            <a:srgbClr val="8caeec"/>
          </a:solidFill>
          <a:ln w="12600">
            <a:solidFill>
              <a:srgbClr val="8cae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Pointer arithmetic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int *p;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is a pointer to an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in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p++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use the original value of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then increment it by the size of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in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++p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increment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by the size of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int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 then use its valu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p--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use the original value of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then decrement it by the size of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in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--p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decrement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by the size of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int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 then use its valu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*p++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retrieve the content of the location pointed to by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then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increment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by the size of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in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*++p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increment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by the size of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int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 then retrieve the content of the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new loca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09480" y="1181160"/>
            <a:ext cx="3854520" cy="49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har *p, *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int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 = “Hello”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q = 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while (*q! = ‘\0’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q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x = q - 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Pointer arithmetic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619600" y="1308240"/>
            <a:ext cx="2743200" cy="4787640"/>
            <a:chOff x="5619600" y="1308240"/>
            <a:chExt cx="2743200" cy="4787640"/>
          </a:xfrm>
        </p:grpSpPr>
        <p:sp>
          <p:nvSpPr>
            <p:cNvPr id="147" name=""/>
            <p:cNvSpPr/>
            <p:nvPr/>
          </p:nvSpPr>
          <p:spPr>
            <a:xfrm>
              <a:off x="5626080" y="1308240"/>
              <a:ext cx="2730600" cy="4787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83680" y="5611680"/>
              <a:ext cx="1861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Global varia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19600" y="3759120"/>
              <a:ext cx="2743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67480" y="1349280"/>
              <a:ext cx="2635200" cy="2365560"/>
            </a:xfrm>
            <a:prstGeom prst="rect">
              <a:avLst/>
            </a:prstGeom>
            <a:solidFill>
              <a:srgbClr val="8caeec"/>
            </a:solidFill>
            <a:ln w="28440">
              <a:solidFill>
                <a:srgbClr val="8cae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76840" y="1371600"/>
              <a:ext cx="18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He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 flipH="1">
            <a:off x="3048120" y="2448000"/>
            <a:ext cx="75240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048120" y="2752560"/>
            <a:ext cx="75240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048120" y="3057480"/>
            <a:ext cx="75240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3409920"/>
            <a:ext cx="75240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281720" y="4419720"/>
            <a:ext cx="928800" cy="368280"/>
            <a:chOff x="7281720" y="4419720"/>
            <a:chExt cx="928800" cy="368280"/>
          </a:xfrm>
        </p:grpSpPr>
        <p:sp>
          <p:nvSpPr>
            <p:cNvPr id="157" name=""/>
            <p:cNvSpPr/>
            <p:nvPr/>
          </p:nvSpPr>
          <p:spPr>
            <a:xfrm>
              <a:off x="7281720" y="4419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34440" y="4543560"/>
              <a:ext cx="676080" cy="199800"/>
            </a:xfrm>
            <a:prstGeom prst="rect">
              <a:avLst/>
            </a:prstGeom>
            <a:solidFill>
              <a:srgbClr val="8caeec"/>
            </a:solidFill>
            <a:ln w="12600">
              <a:solidFill>
                <a:srgbClr val="8cae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291080" y="3909960"/>
            <a:ext cx="928800" cy="368280"/>
            <a:chOff x="7291080" y="3909960"/>
            <a:chExt cx="928800" cy="368280"/>
          </a:xfrm>
        </p:grpSpPr>
        <p:sp>
          <p:nvSpPr>
            <p:cNvPr id="160" name=""/>
            <p:cNvSpPr/>
            <p:nvPr/>
          </p:nvSpPr>
          <p:spPr>
            <a:xfrm>
              <a:off x="7291080" y="39099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43800" y="4033800"/>
              <a:ext cx="676080" cy="200160"/>
            </a:xfrm>
            <a:prstGeom prst="rect">
              <a:avLst/>
            </a:prstGeom>
            <a:solidFill>
              <a:srgbClr val="8caeec"/>
            </a:solidFill>
            <a:ln w="12600">
              <a:solidFill>
                <a:srgbClr val="8cae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 flipH="1">
            <a:off x="3048120" y="3743280"/>
            <a:ext cx="75240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324480" y="2295360"/>
            <a:ext cx="1542960" cy="398880"/>
            <a:chOff x="6324480" y="2295360"/>
            <a:chExt cx="1542960" cy="398880"/>
          </a:xfrm>
        </p:grpSpPr>
        <p:sp>
          <p:nvSpPr>
            <p:cNvPr id="164" name=""/>
            <p:cNvSpPr/>
            <p:nvPr/>
          </p:nvSpPr>
          <p:spPr>
            <a:xfrm>
              <a:off x="6381360" y="2371680"/>
              <a:ext cx="1362240" cy="257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19680" y="2371680"/>
              <a:ext cx="0" cy="2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829200" y="2371680"/>
              <a:ext cx="0" cy="2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67160" y="2371680"/>
              <a:ext cx="0" cy="2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95760" y="2371680"/>
              <a:ext cx="0" cy="2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524360" y="2371680"/>
              <a:ext cx="0" cy="2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4480" y="2295360"/>
              <a:ext cx="15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 e  l   l  o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\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729040" y="3909960"/>
            <a:ext cx="928800" cy="368280"/>
            <a:chOff x="5729040" y="3909960"/>
            <a:chExt cx="928800" cy="368280"/>
          </a:xfrm>
        </p:grpSpPr>
        <p:sp>
          <p:nvSpPr>
            <p:cNvPr id="172" name=""/>
            <p:cNvSpPr/>
            <p:nvPr/>
          </p:nvSpPr>
          <p:spPr>
            <a:xfrm>
              <a:off x="5729040" y="39099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981760" y="4033800"/>
              <a:ext cx="676080" cy="200160"/>
            </a:xfrm>
            <a:prstGeom prst="rect">
              <a:avLst/>
            </a:prstGeom>
            <a:solidFill>
              <a:srgbClr val="8caeec"/>
            </a:solidFill>
            <a:ln w="12600">
              <a:solidFill>
                <a:srgbClr val="8cae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 flipV="1">
            <a:off x="6248520" y="2638440"/>
            <a:ext cx="142920" cy="14954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6391440" y="2638440"/>
            <a:ext cx="1466640" cy="1495440"/>
          </a:xfrm>
          <a:prstGeom prst="line">
            <a:avLst/>
          </a:prstGeom>
          <a:ln w="28440">
            <a:solidFill>
              <a:srgbClr val="2e24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048120" y="4086360"/>
            <a:ext cx="75240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09480" y="1181160"/>
            <a:ext cx="3854520" cy="49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har *p, *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int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 = “Hello”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q = 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while (*q! = ‘\0’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q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x = q - 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Pointer arithmetic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619600" y="1308240"/>
            <a:ext cx="2743200" cy="4787640"/>
            <a:chOff x="5619600" y="1308240"/>
            <a:chExt cx="2743200" cy="4787640"/>
          </a:xfrm>
        </p:grpSpPr>
        <p:sp>
          <p:nvSpPr>
            <p:cNvPr id="180" name=""/>
            <p:cNvSpPr/>
            <p:nvPr/>
          </p:nvSpPr>
          <p:spPr>
            <a:xfrm>
              <a:off x="5626080" y="1308240"/>
              <a:ext cx="2730600" cy="4787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83680" y="5611680"/>
              <a:ext cx="1861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Global varia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19600" y="3759120"/>
              <a:ext cx="2743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67480" y="1349280"/>
              <a:ext cx="2635200" cy="2365560"/>
            </a:xfrm>
            <a:prstGeom prst="rect">
              <a:avLst/>
            </a:prstGeom>
            <a:solidFill>
              <a:srgbClr val="8caeec"/>
            </a:solidFill>
            <a:ln w="28440">
              <a:solidFill>
                <a:srgbClr val="8cae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676840" y="1371600"/>
              <a:ext cx="18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He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3048120" y="2448000"/>
            <a:ext cx="752400" cy="0"/>
          </a:xfrm>
          <a:prstGeom prst="line">
            <a:avLst/>
          </a:prstGeom>
          <a:ln w="2844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048120" y="2752560"/>
            <a:ext cx="752400" cy="0"/>
          </a:xfrm>
          <a:prstGeom prst="line">
            <a:avLst/>
          </a:prstGeom>
          <a:ln w="2844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048120" y="3057480"/>
            <a:ext cx="752400" cy="0"/>
          </a:xfrm>
          <a:prstGeom prst="line">
            <a:avLst/>
          </a:prstGeom>
          <a:ln w="2844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048120" y="3409920"/>
            <a:ext cx="752400" cy="0"/>
          </a:xfrm>
          <a:prstGeom prst="line">
            <a:avLst/>
          </a:prstGeom>
          <a:ln w="2844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7281720" y="4419720"/>
            <a:ext cx="928800" cy="368280"/>
            <a:chOff x="7281720" y="4419720"/>
            <a:chExt cx="928800" cy="368280"/>
          </a:xfrm>
        </p:grpSpPr>
        <p:sp>
          <p:nvSpPr>
            <p:cNvPr id="190" name=""/>
            <p:cNvSpPr/>
            <p:nvPr/>
          </p:nvSpPr>
          <p:spPr>
            <a:xfrm>
              <a:off x="7281720" y="4419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34440" y="4543560"/>
              <a:ext cx="676080" cy="199800"/>
            </a:xfrm>
            <a:prstGeom prst="rect">
              <a:avLst/>
            </a:prstGeom>
            <a:solidFill>
              <a:srgbClr val="8caeec"/>
            </a:solidFill>
            <a:ln w="12600">
              <a:solidFill>
                <a:srgbClr val="8cae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7291080" y="3909960"/>
            <a:ext cx="928800" cy="368280"/>
            <a:chOff x="7291080" y="3909960"/>
            <a:chExt cx="928800" cy="368280"/>
          </a:xfrm>
        </p:grpSpPr>
        <p:sp>
          <p:nvSpPr>
            <p:cNvPr id="193" name=""/>
            <p:cNvSpPr/>
            <p:nvPr/>
          </p:nvSpPr>
          <p:spPr>
            <a:xfrm>
              <a:off x="7291080" y="39099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43800" y="4033800"/>
              <a:ext cx="676080" cy="200160"/>
            </a:xfrm>
            <a:prstGeom prst="rect">
              <a:avLst/>
            </a:prstGeom>
            <a:solidFill>
              <a:srgbClr val="8caeec"/>
            </a:solidFill>
            <a:ln w="12600">
              <a:solidFill>
                <a:srgbClr val="8cae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 flipH="1">
            <a:off x="3048120" y="3743280"/>
            <a:ext cx="75240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048120" y="4086360"/>
            <a:ext cx="75240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324480" y="2295360"/>
            <a:ext cx="1542960" cy="398880"/>
            <a:chOff x="6324480" y="2295360"/>
            <a:chExt cx="1542960" cy="398880"/>
          </a:xfrm>
        </p:grpSpPr>
        <p:sp>
          <p:nvSpPr>
            <p:cNvPr id="198" name=""/>
            <p:cNvSpPr/>
            <p:nvPr/>
          </p:nvSpPr>
          <p:spPr>
            <a:xfrm>
              <a:off x="6381360" y="2371680"/>
              <a:ext cx="1362240" cy="257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19680" y="2371680"/>
              <a:ext cx="0" cy="2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29200" y="2371680"/>
              <a:ext cx="0" cy="2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67160" y="2371680"/>
              <a:ext cx="0" cy="2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95760" y="2371680"/>
              <a:ext cx="0" cy="2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24360" y="2371680"/>
              <a:ext cx="0" cy="2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24480" y="2295360"/>
              <a:ext cx="15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 e  l   l  o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\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5729040" y="3909960"/>
            <a:ext cx="928800" cy="368280"/>
            <a:chOff x="5729040" y="3909960"/>
            <a:chExt cx="928800" cy="368280"/>
          </a:xfrm>
        </p:grpSpPr>
        <p:sp>
          <p:nvSpPr>
            <p:cNvPr id="206" name=""/>
            <p:cNvSpPr/>
            <p:nvPr/>
          </p:nvSpPr>
          <p:spPr>
            <a:xfrm>
              <a:off x="5729040" y="39099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81760" y="4033800"/>
              <a:ext cx="676080" cy="200160"/>
            </a:xfrm>
            <a:prstGeom prst="rect">
              <a:avLst/>
            </a:prstGeom>
            <a:solidFill>
              <a:srgbClr val="8caeec"/>
            </a:solidFill>
            <a:ln w="12600">
              <a:solidFill>
                <a:srgbClr val="8cae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 flipV="1">
            <a:off x="6248520" y="2638440"/>
            <a:ext cx="142920" cy="14954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6800400" y="2619000"/>
            <a:ext cx="1057320" cy="1514520"/>
          </a:xfrm>
          <a:prstGeom prst="line">
            <a:avLst/>
          </a:prstGeom>
          <a:ln w="28440">
            <a:solidFill>
              <a:srgbClr val="2e24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7048080" y="2610000"/>
            <a:ext cx="809640" cy="1514160"/>
          </a:xfrm>
          <a:prstGeom prst="line">
            <a:avLst/>
          </a:prstGeom>
          <a:ln w="28440">
            <a:solidFill>
              <a:srgbClr val="2e24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7286760" y="2629080"/>
            <a:ext cx="581040" cy="1504800"/>
          </a:xfrm>
          <a:prstGeom prst="line">
            <a:avLst/>
          </a:prstGeom>
          <a:ln w="28440">
            <a:solidFill>
              <a:srgbClr val="2e24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7524360" y="2629080"/>
            <a:ext cx="352440" cy="1514160"/>
          </a:xfrm>
          <a:prstGeom prst="line">
            <a:avLst/>
          </a:prstGeom>
          <a:ln w="28440">
            <a:solidFill>
              <a:srgbClr val="2e24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7733880" y="2628720"/>
            <a:ext cx="142920" cy="1523880"/>
          </a:xfrm>
          <a:prstGeom prst="line">
            <a:avLst/>
          </a:prstGeom>
          <a:ln w="28440">
            <a:solidFill>
              <a:srgbClr val="2e24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09480" y="1181160"/>
            <a:ext cx="3854520" cy="49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har *p, *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int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 = “Hello”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q = 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while (*q! = ‘\0’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q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x = q - 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Pointer arithmetic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619600" y="1308240"/>
            <a:ext cx="2743200" cy="4787640"/>
            <a:chOff x="5619600" y="1308240"/>
            <a:chExt cx="2743200" cy="4787640"/>
          </a:xfrm>
        </p:grpSpPr>
        <p:sp>
          <p:nvSpPr>
            <p:cNvPr id="217" name=""/>
            <p:cNvSpPr/>
            <p:nvPr/>
          </p:nvSpPr>
          <p:spPr>
            <a:xfrm>
              <a:off x="5626080" y="1308240"/>
              <a:ext cx="2730600" cy="4787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683680" y="5611680"/>
              <a:ext cx="1861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Global varia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619600" y="3759120"/>
              <a:ext cx="2743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667480" y="1349280"/>
              <a:ext cx="2635200" cy="2365560"/>
            </a:xfrm>
            <a:prstGeom prst="rect">
              <a:avLst/>
            </a:prstGeom>
            <a:solidFill>
              <a:srgbClr val="8caeec"/>
            </a:solidFill>
            <a:ln w="28440">
              <a:solidFill>
                <a:srgbClr val="8cae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76840" y="1371600"/>
              <a:ext cx="18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He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 flipH="1">
            <a:off x="3048120" y="2448000"/>
            <a:ext cx="752400" cy="0"/>
          </a:xfrm>
          <a:prstGeom prst="line">
            <a:avLst/>
          </a:prstGeom>
          <a:ln w="2844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048120" y="2752560"/>
            <a:ext cx="752400" cy="0"/>
          </a:xfrm>
          <a:prstGeom prst="line">
            <a:avLst/>
          </a:prstGeom>
          <a:ln w="2844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048120" y="3057480"/>
            <a:ext cx="752400" cy="0"/>
          </a:xfrm>
          <a:prstGeom prst="line">
            <a:avLst/>
          </a:prstGeom>
          <a:ln w="2844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048120" y="3409920"/>
            <a:ext cx="752400" cy="0"/>
          </a:xfrm>
          <a:prstGeom prst="line">
            <a:avLst/>
          </a:prstGeom>
          <a:ln w="2844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281720" y="4419720"/>
            <a:ext cx="928800" cy="368280"/>
            <a:chOff x="7281720" y="4419720"/>
            <a:chExt cx="928800" cy="368280"/>
          </a:xfrm>
        </p:grpSpPr>
        <p:sp>
          <p:nvSpPr>
            <p:cNvPr id="227" name=""/>
            <p:cNvSpPr/>
            <p:nvPr/>
          </p:nvSpPr>
          <p:spPr>
            <a:xfrm>
              <a:off x="7281720" y="4419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34440" y="4543560"/>
              <a:ext cx="676080" cy="199800"/>
            </a:xfrm>
            <a:prstGeom prst="rect">
              <a:avLst/>
            </a:prstGeom>
            <a:solidFill>
              <a:srgbClr val="8caeec"/>
            </a:solidFill>
            <a:ln w="12600">
              <a:solidFill>
                <a:srgbClr val="8cae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91080" y="3909960"/>
            <a:ext cx="928800" cy="368280"/>
            <a:chOff x="7291080" y="3909960"/>
            <a:chExt cx="928800" cy="368280"/>
          </a:xfrm>
        </p:grpSpPr>
        <p:sp>
          <p:nvSpPr>
            <p:cNvPr id="230" name=""/>
            <p:cNvSpPr/>
            <p:nvPr/>
          </p:nvSpPr>
          <p:spPr>
            <a:xfrm>
              <a:off x="7291080" y="39099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43800" y="4033800"/>
              <a:ext cx="676080" cy="200160"/>
            </a:xfrm>
            <a:prstGeom prst="rect">
              <a:avLst/>
            </a:prstGeom>
            <a:solidFill>
              <a:srgbClr val="8caeec"/>
            </a:solidFill>
            <a:ln w="12600">
              <a:solidFill>
                <a:srgbClr val="8cae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7737120" y="4510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048120" y="3743280"/>
            <a:ext cx="752400" cy="0"/>
          </a:xfrm>
          <a:prstGeom prst="line">
            <a:avLst/>
          </a:prstGeom>
          <a:ln w="2844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048120" y="4086360"/>
            <a:ext cx="752400" cy="0"/>
          </a:xfrm>
          <a:prstGeom prst="line">
            <a:avLst/>
          </a:prstGeom>
          <a:ln w="2844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048120" y="4772160"/>
            <a:ext cx="75240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324480" y="2295360"/>
            <a:ext cx="1542960" cy="398880"/>
            <a:chOff x="6324480" y="2295360"/>
            <a:chExt cx="1542960" cy="398880"/>
          </a:xfrm>
        </p:grpSpPr>
        <p:sp>
          <p:nvSpPr>
            <p:cNvPr id="237" name=""/>
            <p:cNvSpPr/>
            <p:nvPr/>
          </p:nvSpPr>
          <p:spPr>
            <a:xfrm>
              <a:off x="6381360" y="2371680"/>
              <a:ext cx="1362240" cy="257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19680" y="2371680"/>
              <a:ext cx="0" cy="2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29200" y="2371680"/>
              <a:ext cx="0" cy="2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067160" y="2371680"/>
              <a:ext cx="0" cy="2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295760" y="2371680"/>
              <a:ext cx="0" cy="2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24360" y="2371680"/>
              <a:ext cx="0" cy="2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24480" y="2295360"/>
              <a:ext cx="15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 e  l   l  o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\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729040" y="3909960"/>
            <a:ext cx="928800" cy="368280"/>
            <a:chOff x="5729040" y="3909960"/>
            <a:chExt cx="928800" cy="368280"/>
          </a:xfrm>
        </p:grpSpPr>
        <p:sp>
          <p:nvSpPr>
            <p:cNvPr id="245" name=""/>
            <p:cNvSpPr/>
            <p:nvPr/>
          </p:nvSpPr>
          <p:spPr>
            <a:xfrm>
              <a:off x="5729040" y="39099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981760" y="4033800"/>
              <a:ext cx="676080" cy="200160"/>
            </a:xfrm>
            <a:prstGeom prst="rect">
              <a:avLst/>
            </a:prstGeom>
            <a:solidFill>
              <a:srgbClr val="8caeec"/>
            </a:solidFill>
            <a:ln w="12600">
              <a:solidFill>
                <a:srgbClr val="8cae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 flipV="1">
            <a:off x="6248520" y="2638440"/>
            <a:ext cx="142920" cy="14954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7733880" y="2628720"/>
            <a:ext cx="142920" cy="1523880"/>
          </a:xfrm>
          <a:prstGeom prst="line">
            <a:avLst/>
          </a:prstGeom>
          <a:ln w="28440">
            <a:solidFill>
              <a:srgbClr val="2e24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2478"/>
                </a:solidFill>
                <a:latin typeface="Times New Roman"/>
              </a:rPr>
              <a:t>Pointers and arrays</a:t>
            </a:r>
            <a:endParaRPr b="0" i="1" lang="en-US" sz="2800" spc="-1" strike="noStrike">
              <a:solidFill>
                <a:srgbClr val="2e2478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861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rray is a sequential form of the same data typ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n array has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data typ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fixed siz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index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The syntax for declaration of an array is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&lt;data_type&gt; &lt;array_name&gt;[&lt;array_size&gt;]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228600" indent="-22860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n array element can be access in the following form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&lt;array_name&gt;[&lt;array_index&gt;] = &lt;data_value&gt;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&lt;data_value&gt; = &lt;array_name&gt;[&lt;array_index&gt;]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24640" y="4276800"/>
            <a:ext cx="1901880" cy="39060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int a[100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24640" y="5324400"/>
            <a:ext cx="1901880" cy="72396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a[10] = 32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x = a[10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5T10:27:04Z</dcterms:created>
  <dc:creator>Masood Masoodian</dc:creator>
  <dc:description/>
  <dc:language>en-US</dc:language>
  <cp:lastModifiedBy>masoodian</cp:lastModifiedBy>
  <cp:lastPrinted>2000-01-17T10:22:14Z</cp:lastPrinted>
  <dcterms:modified xsi:type="dcterms:W3CDTF">2000-04-07T01:18:12Z</dcterms:modified>
  <cp:revision>131</cp:revision>
  <dc:subject/>
  <dc:title>Lecture slides for 0657.208</dc:title>
</cp:coreProperties>
</file>