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839040"/>
            <a:ext cx="78613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520" y="13712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8390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520" y="38390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2531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7360" y="1371240"/>
            <a:ext cx="2531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5240" y="1371240"/>
            <a:ext cx="2531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839040"/>
            <a:ext cx="2531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7360" y="3839040"/>
            <a:ext cx="2531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5240" y="3839040"/>
            <a:ext cx="2531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836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520" y="1371240"/>
            <a:ext cx="3836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520" y="1371240"/>
            <a:ext cx="3836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8390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836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520" y="13712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520" y="38390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520" y="13712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839040"/>
            <a:ext cx="78613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Click to edit the title text format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4400">
            <a:off x="-360" y="5866920"/>
            <a:ext cx="458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a00"/>
                </a:solidFill>
                <a:latin typeface="Times New Roman"/>
              </a:rPr>
              <a:t>1-</a:t>
            </a:r>
            <a:fld id="{3F0AB640-7BF1-4F97-87ED-57744C589545}" type="slidenum">
              <a:rPr b="0" lang="en-GB" sz="1000" spc="-1" strike="noStrike">
                <a:solidFill>
                  <a:srgbClr val="003a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228600"/>
            <a:ext cx="0" cy="586728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915840"/>
            <a:ext cx="822960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725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e2478"/>
                </a:solidFill>
                <a:latin typeface="Times New Roman"/>
              </a:rPr>
              <a:t>Programming with Data Structures</a:t>
            </a:r>
            <a:br>
              <a:rPr sz="3200"/>
            </a:b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0657.208A</a:t>
            </a:r>
            <a:endParaRPr b="0" i="1" lang="en-US" sz="20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120" y="2742840"/>
            <a:ext cx="7861320" cy="349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Dr. </a:t>
            </a:r>
            <a:r>
              <a:rPr b="0" lang="en-GB" sz="2000" spc="-1" strike="noStrike">
                <a:solidFill>
                  <a:srgbClr val="003300"/>
                </a:solidFill>
                <a:latin typeface="Times New Roman"/>
              </a:rPr>
              <a:t>Masood Masoodia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Room: G1.07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Phone: 839 4978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masood@cs.</a:t>
            </a:r>
            <a:r>
              <a:rPr b="0" lang="en-GB" sz="2000" spc="-1" strike="noStrike">
                <a:solidFill>
                  <a:srgbClr val="003300"/>
                </a:solidFill>
                <a:latin typeface="Times New Roman"/>
              </a:rPr>
              <a:t>waikato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.ac.nz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600880" y="-313560"/>
            <a:ext cx="4148280" cy="3342600"/>
            <a:chOff x="5600880" y="-313560"/>
            <a:chExt cx="4148280" cy="3342600"/>
          </a:xfrm>
        </p:grpSpPr>
        <p:sp>
          <p:nvSpPr>
            <p:cNvPr id="44" name=""/>
            <p:cNvSpPr/>
            <p:nvPr/>
          </p:nvSpPr>
          <p:spPr>
            <a:xfrm rot="20231400">
              <a:off x="5867640" y="304560"/>
              <a:ext cx="3614760" cy="21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200" spc="-1" strike="noStrike">
                  <a:solidFill>
                    <a:srgbClr val="fc0128"/>
                  </a:solidFill>
                  <a:latin typeface="Comic Sans MS"/>
                </a:rPr>
                <a:t>C++</a:t>
              </a:r>
              <a:endParaRPr b="0" lang="en-US" sz="1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19920" y="152280"/>
              <a:ext cx="2874960" cy="2581560"/>
            </a:xfrm>
            <a:custGeom>
              <a:avLst/>
              <a:gdLst/>
              <a:ahLst/>
              <a:rect l="l" t="t" r="r" b="b"/>
              <a:pathLst>
                <a:path w="1811" h="1626">
                  <a:moveTo>
                    <a:pt x="1236" y="1464"/>
                  </a:moveTo>
                  <a:cubicBezTo>
                    <a:pt x="1223" y="1477"/>
                    <a:pt x="1214" y="1494"/>
                    <a:pt x="1200" y="1506"/>
                  </a:cubicBezTo>
                  <a:cubicBezTo>
                    <a:pt x="1184" y="1519"/>
                    <a:pt x="1163" y="1525"/>
                    <a:pt x="1146" y="1536"/>
                  </a:cubicBezTo>
                  <a:cubicBezTo>
                    <a:pt x="1045" y="1599"/>
                    <a:pt x="921" y="1611"/>
                    <a:pt x="804" y="1626"/>
                  </a:cubicBezTo>
                  <a:cubicBezTo>
                    <a:pt x="666" y="1620"/>
                    <a:pt x="517" y="1622"/>
                    <a:pt x="384" y="1578"/>
                  </a:cubicBezTo>
                  <a:cubicBezTo>
                    <a:pt x="352" y="1567"/>
                    <a:pt x="305" y="1561"/>
                    <a:pt x="276" y="1542"/>
                  </a:cubicBezTo>
                  <a:cubicBezTo>
                    <a:pt x="224" y="1507"/>
                    <a:pt x="162" y="1483"/>
                    <a:pt x="120" y="1434"/>
                  </a:cubicBezTo>
                  <a:cubicBezTo>
                    <a:pt x="102" y="1412"/>
                    <a:pt x="111" y="1415"/>
                    <a:pt x="96" y="1386"/>
                  </a:cubicBezTo>
                  <a:cubicBezTo>
                    <a:pt x="87" y="1369"/>
                    <a:pt x="66" y="1338"/>
                    <a:pt x="66" y="1338"/>
                  </a:cubicBezTo>
                  <a:cubicBezTo>
                    <a:pt x="60" y="1302"/>
                    <a:pt x="45" y="1276"/>
                    <a:pt x="36" y="1242"/>
                  </a:cubicBezTo>
                  <a:cubicBezTo>
                    <a:pt x="34" y="1232"/>
                    <a:pt x="33" y="1222"/>
                    <a:pt x="30" y="1212"/>
                  </a:cubicBezTo>
                  <a:cubicBezTo>
                    <a:pt x="27" y="1200"/>
                    <a:pt x="18" y="1176"/>
                    <a:pt x="18" y="1176"/>
                  </a:cubicBezTo>
                  <a:cubicBezTo>
                    <a:pt x="14" y="1148"/>
                    <a:pt x="10" y="1120"/>
                    <a:pt x="6" y="1092"/>
                  </a:cubicBezTo>
                  <a:cubicBezTo>
                    <a:pt x="4" y="1078"/>
                    <a:pt x="0" y="1050"/>
                    <a:pt x="0" y="1050"/>
                  </a:cubicBezTo>
                  <a:cubicBezTo>
                    <a:pt x="5" y="957"/>
                    <a:pt x="9" y="805"/>
                    <a:pt x="66" y="720"/>
                  </a:cubicBezTo>
                  <a:cubicBezTo>
                    <a:pt x="89" y="606"/>
                    <a:pt x="54" y="765"/>
                    <a:pt x="84" y="666"/>
                  </a:cubicBezTo>
                  <a:cubicBezTo>
                    <a:pt x="109" y="584"/>
                    <a:pt x="111" y="498"/>
                    <a:pt x="150" y="420"/>
                  </a:cubicBezTo>
                  <a:cubicBezTo>
                    <a:pt x="177" y="366"/>
                    <a:pt x="226" y="321"/>
                    <a:pt x="270" y="282"/>
                  </a:cubicBezTo>
                  <a:cubicBezTo>
                    <a:pt x="278" y="274"/>
                    <a:pt x="287" y="267"/>
                    <a:pt x="294" y="258"/>
                  </a:cubicBezTo>
                  <a:cubicBezTo>
                    <a:pt x="301" y="250"/>
                    <a:pt x="305" y="241"/>
                    <a:pt x="312" y="234"/>
                  </a:cubicBezTo>
                  <a:cubicBezTo>
                    <a:pt x="341" y="207"/>
                    <a:pt x="380" y="190"/>
                    <a:pt x="408" y="162"/>
                  </a:cubicBezTo>
                  <a:cubicBezTo>
                    <a:pt x="413" y="157"/>
                    <a:pt x="414" y="149"/>
                    <a:pt x="420" y="144"/>
                  </a:cubicBezTo>
                  <a:cubicBezTo>
                    <a:pt x="442" y="126"/>
                    <a:pt x="473" y="114"/>
                    <a:pt x="498" y="102"/>
                  </a:cubicBezTo>
                  <a:cubicBezTo>
                    <a:pt x="517" y="92"/>
                    <a:pt x="533" y="76"/>
                    <a:pt x="552" y="66"/>
                  </a:cubicBezTo>
                  <a:cubicBezTo>
                    <a:pt x="640" y="22"/>
                    <a:pt x="744" y="10"/>
                    <a:pt x="840" y="0"/>
                  </a:cubicBezTo>
                  <a:cubicBezTo>
                    <a:pt x="961" y="3"/>
                    <a:pt x="1071" y="1"/>
                    <a:pt x="1188" y="18"/>
                  </a:cubicBezTo>
                  <a:cubicBezTo>
                    <a:pt x="1272" y="46"/>
                    <a:pt x="1358" y="60"/>
                    <a:pt x="1440" y="96"/>
                  </a:cubicBezTo>
                  <a:cubicBezTo>
                    <a:pt x="1491" y="119"/>
                    <a:pt x="1538" y="141"/>
                    <a:pt x="1590" y="162"/>
                  </a:cubicBezTo>
                  <a:cubicBezTo>
                    <a:pt x="1599" y="166"/>
                    <a:pt x="1605" y="175"/>
                    <a:pt x="1614" y="180"/>
                  </a:cubicBezTo>
                  <a:cubicBezTo>
                    <a:pt x="1619" y="183"/>
                    <a:pt x="1626" y="184"/>
                    <a:pt x="1632" y="186"/>
                  </a:cubicBezTo>
                  <a:cubicBezTo>
                    <a:pt x="1658" y="212"/>
                    <a:pt x="1687" y="230"/>
                    <a:pt x="1704" y="264"/>
                  </a:cubicBezTo>
                  <a:cubicBezTo>
                    <a:pt x="1735" y="326"/>
                    <a:pt x="1757" y="394"/>
                    <a:pt x="1788" y="456"/>
                  </a:cubicBezTo>
                  <a:cubicBezTo>
                    <a:pt x="1806" y="545"/>
                    <a:pt x="1811" y="645"/>
                    <a:pt x="1782" y="732"/>
                  </a:cubicBezTo>
                  <a:cubicBezTo>
                    <a:pt x="1772" y="799"/>
                    <a:pt x="1749" y="860"/>
                    <a:pt x="1728" y="924"/>
                  </a:cubicBezTo>
                  <a:cubicBezTo>
                    <a:pt x="1720" y="947"/>
                    <a:pt x="1716" y="972"/>
                    <a:pt x="1710" y="996"/>
                  </a:cubicBezTo>
                  <a:cubicBezTo>
                    <a:pt x="1704" y="1018"/>
                    <a:pt x="1695" y="1030"/>
                    <a:pt x="1686" y="1050"/>
                  </a:cubicBezTo>
                  <a:cubicBezTo>
                    <a:pt x="1668" y="1092"/>
                    <a:pt x="1653" y="1135"/>
                    <a:pt x="1632" y="1176"/>
                  </a:cubicBezTo>
                  <a:cubicBezTo>
                    <a:pt x="1601" y="1238"/>
                    <a:pt x="1542" y="1284"/>
                    <a:pt x="1494" y="1332"/>
                  </a:cubicBezTo>
                  <a:cubicBezTo>
                    <a:pt x="1487" y="1339"/>
                    <a:pt x="1484" y="1349"/>
                    <a:pt x="1476" y="1356"/>
                  </a:cubicBezTo>
                  <a:cubicBezTo>
                    <a:pt x="1469" y="1362"/>
                    <a:pt x="1459" y="1363"/>
                    <a:pt x="1452" y="1368"/>
                  </a:cubicBezTo>
                  <a:cubicBezTo>
                    <a:pt x="1402" y="1403"/>
                    <a:pt x="1351" y="1437"/>
                    <a:pt x="1296" y="1464"/>
                  </a:cubicBezTo>
                  <a:cubicBezTo>
                    <a:pt x="1267" y="1479"/>
                    <a:pt x="1237" y="1490"/>
                    <a:pt x="1206" y="1500"/>
                  </a:cubicBezTo>
                  <a:cubicBezTo>
                    <a:pt x="1202" y="1501"/>
                    <a:pt x="1214" y="1500"/>
                    <a:pt x="1218" y="1500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Keeping things private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854520" cy="4800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#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clude&lt;…&gt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#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clude&lt;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more.h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t g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lobal1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void r1(…)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local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1;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…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void r2(…)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local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2;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…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void main()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local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3;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…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48320" y="1295280"/>
            <a:ext cx="3854160" cy="8384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a00"/>
                </a:solidFill>
                <a:latin typeface="Courier New"/>
              </a:rPr>
              <a:t>extern </a:t>
            </a:r>
            <a:r>
              <a:rPr b="1" lang="en-GB" sz="1800" spc="-1" strike="noStrike">
                <a:solidFill>
                  <a:srgbClr val="003a00"/>
                </a:solidFill>
                <a:latin typeface="Courier New"/>
              </a:rPr>
              <a:t>int g</a:t>
            </a:r>
            <a:r>
              <a:rPr b="1" lang="en-US" sz="1800" spc="-1" strike="noStrike">
                <a:solidFill>
                  <a:srgbClr val="003a00"/>
                </a:solidFill>
                <a:latin typeface="Courier New"/>
              </a:rPr>
              <a:t>lobal2</a:t>
            </a:r>
            <a:r>
              <a:rPr b="1" lang="en-GB" sz="1800" spc="-1" strike="noStrike">
                <a:solidFill>
                  <a:srgbClr val="003a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extern void r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3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1371600"/>
            <a:ext cx="990720" cy="27468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test.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67480" y="1371600"/>
            <a:ext cx="990720" cy="27468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more.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2362320"/>
            <a:ext cx="3854160" cy="37335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a00"/>
                </a:solidFill>
                <a:latin typeface="Courier New"/>
              </a:rPr>
              <a:t>#</a:t>
            </a:r>
            <a:r>
              <a:rPr b="1" lang="en-US" sz="1800" spc="-1" strike="noStrike">
                <a:solidFill>
                  <a:srgbClr val="003a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3a00"/>
                </a:solidFill>
                <a:latin typeface="Courier New"/>
              </a:rPr>
              <a:t>include&lt;…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a00"/>
                </a:solidFill>
                <a:latin typeface="Courier New"/>
              </a:rPr>
              <a:t>#</a:t>
            </a:r>
            <a:r>
              <a:rPr b="1" lang="en-US" sz="1800" spc="-1" strike="noStrike">
                <a:solidFill>
                  <a:srgbClr val="003a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3a00"/>
                </a:solidFill>
                <a:latin typeface="Courier New"/>
              </a:rPr>
              <a:t>include&lt;</a:t>
            </a:r>
            <a:r>
              <a:rPr b="1" lang="en-US" sz="1800" spc="-1" strike="noStrike">
                <a:solidFill>
                  <a:srgbClr val="003a00"/>
                </a:solidFill>
                <a:latin typeface="Courier New"/>
              </a:rPr>
              <a:t>more.h</a:t>
            </a:r>
            <a:r>
              <a:rPr b="1" lang="en-GB" sz="1800" spc="-1" strike="noStrike">
                <a:solidFill>
                  <a:srgbClr val="003a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a00"/>
                </a:solidFill>
                <a:latin typeface="Courier New"/>
              </a:rPr>
              <a:t>void r</a:t>
            </a:r>
            <a:r>
              <a:rPr b="1" lang="en-US" sz="1800" spc="-1" strike="noStrike">
                <a:solidFill>
                  <a:srgbClr val="003a00"/>
                </a:solidFill>
                <a:latin typeface="Courier New"/>
              </a:rPr>
              <a:t>3</a:t>
            </a:r>
            <a:r>
              <a:rPr b="1" lang="en-GB" sz="1800" spc="-1" strike="noStrike">
                <a:solidFill>
                  <a:srgbClr val="003a00"/>
                </a:solidFill>
                <a:latin typeface="Courier New"/>
              </a:rPr>
              <a:t>(…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a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a00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3a00"/>
                </a:solidFill>
                <a:latin typeface="Courier New"/>
              </a:rPr>
              <a:t>local3</a:t>
            </a:r>
            <a:r>
              <a:rPr b="1" lang="en-GB" sz="1800" spc="-1" strike="noStrike">
                <a:solidFill>
                  <a:srgbClr val="003a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a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a00"/>
                </a:solidFill>
                <a:latin typeface="Courier New"/>
              </a:rPr>
              <a:t>…</a:t>
            </a:r>
            <a:r>
              <a:rPr b="1" lang="en-US" sz="1800" spc="-1" strike="noStrike">
                <a:solidFill>
                  <a:srgbClr val="003a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a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467480" y="2438280"/>
            <a:ext cx="990720" cy="27468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more.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94400" y="304812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00"/>
                </a:solidFill>
                <a:latin typeface="Courier New"/>
              </a:rPr>
              <a:t>static </a:t>
            </a:r>
            <a:r>
              <a:rPr b="0" lang="en-GB" sz="2000" spc="-1" strike="noStrike">
                <a:solidFill>
                  <a:srgbClr val="003a00"/>
                </a:solidFill>
                <a:latin typeface="Courier New"/>
              </a:rPr>
              <a:t>int g</a:t>
            </a:r>
            <a:r>
              <a:rPr b="0" lang="en-US" sz="2000" spc="-1" strike="noStrike">
                <a:solidFill>
                  <a:srgbClr val="003a00"/>
                </a:solidFill>
                <a:latin typeface="Courier New"/>
              </a:rPr>
              <a:t>lobal2</a:t>
            </a:r>
            <a:r>
              <a:rPr b="0" lang="en-GB" sz="2000" spc="-1" strike="noStrike">
                <a:solidFill>
                  <a:srgbClr val="003a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94400" y="4648320"/>
            <a:ext cx="29235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00"/>
                </a:solidFill>
                <a:latin typeface="Courier New"/>
              </a:rPr>
              <a:t>static void </a:t>
            </a:r>
            <a:r>
              <a:rPr b="0" lang="en-GB" sz="2000" spc="-1" strike="noStrike">
                <a:solidFill>
                  <a:srgbClr val="003a00"/>
                </a:solidFill>
                <a:latin typeface="Courier New"/>
              </a:rPr>
              <a:t>r</a:t>
            </a:r>
            <a:r>
              <a:rPr b="0" lang="en-US" sz="2000" spc="-1" strike="noStrike">
                <a:solidFill>
                  <a:srgbClr val="003a00"/>
                </a:solidFill>
                <a:latin typeface="Courier New"/>
              </a:rPr>
              <a:t>4</a:t>
            </a:r>
            <a:r>
              <a:rPr b="0" lang="en-GB" sz="2000" spc="-1" strike="noStrike">
                <a:solidFill>
                  <a:srgbClr val="003a00"/>
                </a:solidFill>
                <a:latin typeface="Courier New"/>
              </a:rPr>
              <a:t>(…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3a00"/>
                </a:solidFill>
                <a:latin typeface="Courier New"/>
              </a:rPr>
              <a:t>int </a:t>
            </a:r>
            <a:r>
              <a:rPr b="0" lang="en-US" sz="2000" spc="-1" strike="noStrike">
                <a:solidFill>
                  <a:srgbClr val="003a00"/>
                </a:solidFill>
                <a:latin typeface="Courier New"/>
              </a:rPr>
              <a:t>local4</a:t>
            </a:r>
            <a:r>
              <a:rPr b="0" lang="en-GB" sz="2000" spc="-1" strike="noStrike">
                <a:solidFill>
                  <a:srgbClr val="003a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3a00"/>
                </a:solidFill>
                <a:latin typeface="Courier New"/>
              </a:rPr>
              <a:t>…</a:t>
            </a:r>
            <a:r>
              <a:rPr b="0" lang="en-US" sz="2000" spc="-1" strike="noStrike">
                <a:solidFill>
                  <a:srgbClr val="003a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14920" y="1438200"/>
            <a:ext cx="2600280" cy="47880"/>
          </a:xfrm>
          <a:custGeom>
            <a:avLst/>
            <a:gdLst/>
            <a:ahLst/>
            <a:rect l="l" t="t" r="r" b="b"/>
            <a:pathLst>
              <a:path w="1638" h="30">
                <a:moveTo>
                  <a:pt x="0" y="24"/>
                </a:moveTo>
                <a:cubicBezTo>
                  <a:pt x="47" y="15"/>
                  <a:pt x="89" y="5"/>
                  <a:pt x="138" y="0"/>
                </a:cubicBezTo>
                <a:cubicBezTo>
                  <a:pt x="198" y="2"/>
                  <a:pt x="258" y="3"/>
                  <a:pt x="318" y="6"/>
                </a:cubicBezTo>
                <a:cubicBezTo>
                  <a:pt x="351" y="7"/>
                  <a:pt x="397" y="8"/>
                  <a:pt x="432" y="18"/>
                </a:cubicBezTo>
                <a:cubicBezTo>
                  <a:pt x="444" y="21"/>
                  <a:pt x="468" y="30"/>
                  <a:pt x="468" y="30"/>
                </a:cubicBezTo>
                <a:cubicBezTo>
                  <a:pt x="508" y="28"/>
                  <a:pt x="548" y="28"/>
                  <a:pt x="588" y="24"/>
                </a:cubicBezTo>
                <a:cubicBezTo>
                  <a:pt x="604" y="22"/>
                  <a:pt x="636" y="12"/>
                  <a:pt x="636" y="12"/>
                </a:cubicBezTo>
                <a:cubicBezTo>
                  <a:pt x="683" y="28"/>
                  <a:pt x="733" y="14"/>
                  <a:pt x="780" y="30"/>
                </a:cubicBezTo>
                <a:cubicBezTo>
                  <a:pt x="813" y="26"/>
                  <a:pt x="839" y="21"/>
                  <a:pt x="870" y="12"/>
                </a:cubicBezTo>
                <a:cubicBezTo>
                  <a:pt x="882" y="8"/>
                  <a:pt x="906" y="0"/>
                  <a:pt x="906" y="0"/>
                </a:cubicBezTo>
                <a:cubicBezTo>
                  <a:pt x="940" y="9"/>
                  <a:pt x="975" y="13"/>
                  <a:pt x="1008" y="24"/>
                </a:cubicBezTo>
                <a:cubicBezTo>
                  <a:pt x="1140" y="17"/>
                  <a:pt x="1273" y="8"/>
                  <a:pt x="1404" y="30"/>
                </a:cubicBezTo>
                <a:cubicBezTo>
                  <a:pt x="1437" y="28"/>
                  <a:pt x="1504" y="24"/>
                  <a:pt x="1542" y="18"/>
                </a:cubicBezTo>
                <a:cubicBezTo>
                  <a:pt x="1570" y="14"/>
                  <a:pt x="1608" y="0"/>
                  <a:pt x="1638" y="0"/>
                </a:cubicBezTo>
              </a:path>
            </a:pathLst>
          </a:custGeom>
          <a:noFill/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Data objects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The basic data objects manipulated in a program are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constant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variable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Expressions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combine variables and constants to produce new valu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n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identifier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 (variables or constants) must be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declared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before it can be use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Declaration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means that the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data type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of an identifier is specifie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Definition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means that the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value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of an identifier is specifie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Declaration and definition 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4496040" cy="47242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char ch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int count = 1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struct complex {float re, im;}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complex cvar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extern complex sqrt(complex)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extern int error_number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float real(complex* p) 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return p-&gt;re;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constant double pi=3.14115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struct user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13520" y="1371240"/>
            <a:ext cx="3549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Entity corresponds to the allocated memory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Entity is a new typ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Entity corresponds to the allocated memory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Body of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sqrt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must be specifie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Memory must be allocate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Entity is the specified func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Entity is the valu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type needs to be specifie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09480" y="1371600"/>
            <a:ext cx="3854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00"/>
                </a:solidFill>
                <a:latin typeface="Times New Roman"/>
              </a:rPr>
              <a:t>Fundamental types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a00"/>
                </a:solidFill>
                <a:latin typeface="Times New Roman"/>
              </a:rPr>
              <a:t>ch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a00"/>
                </a:solidFill>
                <a:latin typeface="Times New Roman"/>
              </a:rPr>
              <a:t>short </a:t>
            </a:r>
            <a:r>
              <a:rPr b="0" i="1" lang="en-US" sz="2000" spc="-1" strike="noStrike">
                <a:solidFill>
                  <a:srgbClr val="003a00"/>
                </a:solidFill>
                <a:latin typeface="Times New Roman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a00"/>
                </a:solidFill>
                <a:latin typeface="Times New Roman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a00"/>
                </a:solidFill>
                <a:latin typeface="Times New Roman"/>
              </a:rPr>
              <a:t>long </a:t>
            </a:r>
            <a:r>
              <a:rPr b="0" i="1" lang="en-US" sz="2000" spc="-1" strike="noStrike">
                <a:solidFill>
                  <a:srgbClr val="003a00"/>
                </a:solidFill>
                <a:latin typeface="Times New Roman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a00"/>
                </a:solidFill>
                <a:latin typeface="Times New Roman"/>
              </a:rPr>
              <a:t>flo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a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a00"/>
                </a:solidFill>
                <a:latin typeface="Times New Roman"/>
              </a:rPr>
              <a:t>long 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a00"/>
                </a:solidFill>
                <a:latin typeface="Times New Roman"/>
              </a:rPr>
              <a:t>bool</a:t>
            </a:r>
            <a:r>
              <a:rPr b="0" lang="en-US" sz="2000" spc="-1" strike="noStrike">
                <a:solidFill>
                  <a:srgbClr val="003a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ANSI/ISO C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a00"/>
                </a:solidFill>
                <a:latin typeface="Times New Roman"/>
              </a:rPr>
              <a:t>unsigned ch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a00"/>
                </a:solidFill>
                <a:latin typeface="Times New Roman"/>
              </a:rPr>
              <a:t>unsigned short </a:t>
            </a:r>
            <a:r>
              <a:rPr b="0" i="1" lang="en-US" sz="2000" spc="-1" strike="noStrike">
                <a:solidFill>
                  <a:srgbClr val="003a00"/>
                </a:solidFill>
                <a:latin typeface="Times New Roman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a00"/>
                </a:solidFill>
                <a:latin typeface="Times New Roman"/>
              </a:rPr>
              <a:t>unsigned 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a00"/>
                </a:solidFill>
                <a:latin typeface="Times New Roman"/>
              </a:rPr>
              <a:t>unsigned long </a:t>
            </a:r>
            <a:r>
              <a:rPr b="0" i="1" lang="en-US" sz="2000" spc="-1" strike="noStrike">
                <a:solidFill>
                  <a:srgbClr val="003a00"/>
                </a:solidFill>
                <a:latin typeface="Times New Roman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Fundamental and derived types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15920" y="1371240"/>
            <a:ext cx="38545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Other data types can be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derived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from fundamental data types by using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declaration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operator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pointer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&amp;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referenc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[]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rray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()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unc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structure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definition mechanism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Abstract Data Types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(ADT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00"/>
                </a:solidFill>
                <a:latin typeface="Times New Roman"/>
              </a:rPr>
              <a:t>more on this later…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Next lecture…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029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3300"/>
                </a:solidFill>
                <a:latin typeface="Times New Roman"/>
              </a:rPr>
              <a:t>Dynamic</a:t>
            </a:r>
            <a:endParaRPr b="0" lang="en-US" sz="96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c0128"/>
                </a:solidFill>
                <a:latin typeface="Times New Roman"/>
              </a:rPr>
              <a:t>memory</a:t>
            </a:r>
            <a:endParaRPr b="0" lang="en-US" sz="96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Times New Roman"/>
              </a:rPr>
              <a:t>allocation</a:t>
            </a:r>
            <a:r>
              <a:rPr b="0" lang="en-US" sz="96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990720"/>
            <a:ext cx="5105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Dynami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6600"/>
                </a:solidFill>
                <a:latin typeface="Times New Roman"/>
              </a:rPr>
              <a:t>memor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c0128"/>
                </a:solidFill>
                <a:latin typeface="Times New Roman"/>
              </a:rPr>
              <a:t>allocation</a:t>
            </a:r>
            <a:r>
              <a:rPr b="0" lang="en-US" sz="96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990720"/>
            <a:ext cx="5105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Dynami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2e2478"/>
                </a:solidFill>
                <a:latin typeface="Times New Roman"/>
              </a:rPr>
              <a:t>memor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c0128"/>
                </a:solidFill>
                <a:latin typeface="Times New Roman"/>
              </a:rPr>
              <a:t>allocation</a:t>
            </a:r>
            <a:r>
              <a:rPr b="0" lang="en-US" sz="96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1371600"/>
            <a:ext cx="5105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Dynami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18ffd"/>
                </a:solidFill>
                <a:latin typeface="Times New Roman"/>
              </a:rPr>
              <a:t>memor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c0128"/>
                </a:solidFill>
                <a:latin typeface="Times New Roman"/>
              </a:rPr>
              <a:t>allocation</a:t>
            </a:r>
            <a:r>
              <a:rPr b="0" lang="en-US" sz="96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914400"/>
            <a:ext cx="5105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Dynami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c0128"/>
                </a:solidFill>
                <a:latin typeface="Times New Roman"/>
              </a:rPr>
              <a:t>memor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18ffd"/>
                </a:solidFill>
                <a:latin typeface="Times New Roman"/>
              </a:rPr>
              <a:t>allocation</a:t>
            </a:r>
            <a:r>
              <a:rPr b="0" lang="en-US" sz="96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725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e2478"/>
                </a:solidFill>
                <a:latin typeface="Times New Roman"/>
              </a:rPr>
              <a:t>Programming with Data Structures</a:t>
            </a:r>
            <a:br>
              <a:rPr sz="3200"/>
            </a:b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0657.208A</a:t>
            </a:r>
            <a:endParaRPr b="0" i="1" lang="en-US" sz="20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120" y="2825280"/>
            <a:ext cx="7861320" cy="349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Review of C++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20231400">
            <a:off x="5867640" y="304560"/>
            <a:ext cx="36147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200" spc="-1" strike="noStrike">
                <a:solidFill>
                  <a:srgbClr val="fc0128"/>
                </a:solidFill>
                <a:latin typeface="Comic Sans MS"/>
              </a:rPr>
              <a:t>C++</a:t>
            </a: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19920" y="152280"/>
            <a:ext cx="2874960" cy="2581560"/>
          </a:xfrm>
          <a:custGeom>
            <a:avLst/>
            <a:gdLst/>
            <a:ahLst/>
            <a:rect l="l" t="t" r="r" b="b"/>
            <a:pathLst>
              <a:path w="1811" h="1626">
                <a:moveTo>
                  <a:pt x="1236" y="1464"/>
                </a:moveTo>
                <a:cubicBezTo>
                  <a:pt x="1223" y="1477"/>
                  <a:pt x="1214" y="1494"/>
                  <a:pt x="1200" y="1506"/>
                </a:cubicBezTo>
                <a:cubicBezTo>
                  <a:pt x="1184" y="1519"/>
                  <a:pt x="1163" y="1525"/>
                  <a:pt x="1146" y="1536"/>
                </a:cubicBezTo>
                <a:cubicBezTo>
                  <a:pt x="1045" y="1599"/>
                  <a:pt x="921" y="1611"/>
                  <a:pt x="804" y="1626"/>
                </a:cubicBezTo>
                <a:cubicBezTo>
                  <a:pt x="666" y="1620"/>
                  <a:pt x="517" y="1622"/>
                  <a:pt x="384" y="1578"/>
                </a:cubicBezTo>
                <a:cubicBezTo>
                  <a:pt x="352" y="1567"/>
                  <a:pt x="305" y="1561"/>
                  <a:pt x="276" y="1542"/>
                </a:cubicBezTo>
                <a:cubicBezTo>
                  <a:pt x="224" y="1507"/>
                  <a:pt x="162" y="1483"/>
                  <a:pt x="120" y="1434"/>
                </a:cubicBezTo>
                <a:cubicBezTo>
                  <a:pt x="102" y="1412"/>
                  <a:pt x="111" y="1415"/>
                  <a:pt x="96" y="1386"/>
                </a:cubicBezTo>
                <a:cubicBezTo>
                  <a:pt x="87" y="1369"/>
                  <a:pt x="66" y="1338"/>
                  <a:pt x="66" y="1338"/>
                </a:cubicBezTo>
                <a:cubicBezTo>
                  <a:pt x="60" y="1302"/>
                  <a:pt x="45" y="1276"/>
                  <a:pt x="36" y="1242"/>
                </a:cubicBezTo>
                <a:cubicBezTo>
                  <a:pt x="34" y="1232"/>
                  <a:pt x="33" y="1222"/>
                  <a:pt x="30" y="1212"/>
                </a:cubicBezTo>
                <a:cubicBezTo>
                  <a:pt x="27" y="1200"/>
                  <a:pt x="18" y="1176"/>
                  <a:pt x="18" y="1176"/>
                </a:cubicBezTo>
                <a:cubicBezTo>
                  <a:pt x="14" y="1148"/>
                  <a:pt x="10" y="1120"/>
                  <a:pt x="6" y="1092"/>
                </a:cubicBezTo>
                <a:cubicBezTo>
                  <a:pt x="4" y="1078"/>
                  <a:pt x="0" y="1050"/>
                  <a:pt x="0" y="1050"/>
                </a:cubicBezTo>
                <a:cubicBezTo>
                  <a:pt x="5" y="957"/>
                  <a:pt x="9" y="805"/>
                  <a:pt x="66" y="720"/>
                </a:cubicBezTo>
                <a:cubicBezTo>
                  <a:pt x="89" y="606"/>
                  <a:pt x="54" y="765"/>
                  <a:pt x="84" y="666"/>
                </a:cubicBezTo>
                <a:cubicBezTo>
                  <a:pt x="109" y="584"/>
                  <a:pt x="111" y="498"/>
                  <a:pt x="150" y="420"/>
                </a:cubicBezTo>
                <a:cubicBezTo>
                  <a:pt x="177" y="366"/>
                  <a:pt x="226" y="321"/>
                  <a:pt x="270" y="282"/>
                </a:cubicBezTo>
                <a:cubicBezTo>
                  <a:pt x="278" y="274"/>
                  <a:pt x="287" y="267"/>
                  <a:pt x="294" y="258"/>
                </a:cubicBezTo>
                <a:cubicBezTo>
                  <a:pt x="301" y="250"/>
                  <a:pt x="305" y="241"/>
                  <a:pt x="312" y="234"/>
                </a:cubicBezTo>
                <a:cubicBezTo>
                  <a:pt x="341" y="207"/>
                  <a:pt x="380" y="190"/>
                  <a:pt x="408" y="162"/>
                </a:cubicBezTo>
                <a:cubicBezTo>
                  <a:pt x="413" y="157"/>
                  <a:pt x="414" y="149"/>
                  <a:pt x="420" y="144"/>
                </a:cubicBezTo>
                <a:cubicBezTo>
                  <a:pt x="442" y="126"/>
                  <a:pt x="473" y="114"/>
                  <a:pt x="498" y="102"/>
                </a:cubicBezTo>
                <a:cubicBezTo>
                  <a:pt x="517" y="92"/>
                  <a:pt x="533" y="76"/>
                  <a:pt x="552" y="66"/>
                </a:cubicBezTo>
                <a:cubicBezTo>
                  <a:pt x="640" y="22"/>
                  <a:pt x="744" y="10"/>
                  <a:pt x="840" y="0"/>
                </a:cubicBezTo>
                <a:cubicBezTo>
                  <a:pt x="961" y="3"/>
                  <a:pt x="1071" y="1"/>
                  <a:pt x="1188" y="18"/>
                </a:cubicBezTo>
                <a:cubicBezTo>
                  <a:pt x="1272" y="46"/>
                  <a:pt x="1358" y="60"/>
                  <a:pt x="1440" y="96"/>
                </a:cubicBezTo>
                <a:cubicBezTo>
                  <a:pt x="1491" y="119"/>
                  <a:pt x="1538" y="141"/>
                  <a:pt x="1590" y="162"/>
                </a:cubicBezTo>
                <a:cubicBezTo>
                  <a:pt x="1599" y="166"/>
                  <a:pt x="1605" y="175"/>
                  <a:pt x="1614" y="180"/>
                </a:cubicBezTo>
                <a:cubicBezTo>
                  <a:pt x="1619" y="183"/>
                  <a:pt x="1626" y="184"/>
                  <a:pt x="1632" y="186"/>
                </a:cubicBezTo>
                <a:cubicBezTo>
                  <a:pt x="1658" y="212"/>
                  <a:pt x="1687" y="230"/>
                  <a:pt x="1704" y="264"/>
                </a:cubicBezTo>
                <a:cubicBezTo>
                  <a:pt x="1735" y="326"/>
                  <a:pt x="1757" y="394"/>
                  <a:pt x="1788" y="456"/>
                </a:cubicBezTo>
                <a:cubicBezTo>
                  <a:pt x="1806" y="545"/>
                  <a:pt x="1811" y="645"/>
                  <a:pt x="1782" y="732"/>
                </a:cubicBezTo>
                <a:cubicBezTo>
                  <a:pt x="1772" y="799"/>
                  <a:pt x="1749" y="860"/>
                  <a:pt x="1728" y="924"/>
                </a:cubicBezTo>
                <a:cubicBezTo>
                  <a:pt x="1720" y="947"/>
                  <a:pt x="1716" y="972"/>
                  <a:pt x="1710" y="996"/>
                </a:cubicBezTo>
                <a:cubicBezTo>
                  <a:pt x="1704" y="1018"/>
                  <a:pt x="1695" y="1030"/>
                  <a:pt x="1686" y="1050"/>
                </a:cubicBezTo>
                <a:cubicBezTo>
                  <a:pt x="1668" y="1092"/>
                  <a:pt x="1653" y="1135"/>
                  <a:pt x="1632" y="1176"/>
                </a:cubicBezTo>
                <a:cubicBezTo>
                  <a:pt x="1601" y="1238"/>
                  <a:pt x="1542" y="1284"/>
                  <a:pt x="1494" y="1332"/>
                </a:cubicBezTo>
                <a:cubicBezTo>
                  <a:pt x="1487" y="1339"/>
                  <a:pt x="1484" y="1349"/>
                  <a:pt x="1476" y="1356"/>
                </a:cubicBezTo>
                <a:cubicBezTo>
                  <a:pt x="1469" y="1362"/>
                  <a:pt x="1459" y="1363"/>
                  <a:pt x="1452" y="1368"/>
                </a:cubicBezTo>
                <a:cubicBezTo>
                  <a:pt x="1402" y="1403"/>
                  <a:pt x="1351" y="1437"/>
                  <a:pt x="1296" y="1464"/>
                </a:cubicBezTo>
                <a:cubicBezTo>
                  <a:pt x="1267" y="1479"/>
                  <a:pt x="1237" y="1490"/>
                  <a:pt x="1206" y="1500"/>
                </a:cubicBezTo>
                <a:cubicBezTo>
                  <a:pt x="1202" y="1501"/>
                  <a:pt x="1214" y="1500"/>
                  <a:pt x="1218" y="1500"/>
                </a:cubicBezTo>
              </a:path>
            </a:pathLst>
          </a:custGeom>
          <a:noFill/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A C++ program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854520" cy="47242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# include&lt;iostream.h&gt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void main(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cout&lt;&lt;“Hello, World!\n”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15920" y="1371240"/>
            <a:ext cx="38545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Instructs the compiler to include the declarations contained in standard input output library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Every C++ program must have a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main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procedur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cout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is the standard output stream Operator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&lt;&lt;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writes its second argument into is first argumen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A C++ program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854520" cy="47242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#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clude&lt;…&gt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t g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lobal1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void r1(…)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local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1;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…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void r2(…)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local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2;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…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void main()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local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3;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…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15920" y="1371240"/>
            <a:ext cx="38545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00"/>
                </a:solidFill>
                <a:latin typeface="Times New Roman"/>
              </a:rPr>
              <a:t>Definitions of library data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00"/>
                </a:solidFill>
                <a:latin typeface="Times New Roman"/>
              </a:rPr>
              <a:t>Global variable(s)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00"/>
                </a:solidFill>
                <a:latin typeface="Times New Roman"/>
              </a:rPr>
              <a:t>Routines (procedures and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3300"/>
                </a:solidFill>
                <a:latin typeface="Times New Roman"/>
              </a:rPr>
              <a:t>functions)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3300"/>
                </a:solidFill>
                <a:latin typeface="Times New Roman"/>
              </a:rPr>
              <a:t>with local variabl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00"/>
                </a:solidFill>
                <a:latin typeface="Times New Roman"/>
              </a:rPr>
              <a:t>The main program (entry point)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3300"/>
                </a:solidFill>
                <a:latin typeface="Times New Roman"/>
              </a:rPr>
              <a:t>also with a local variabl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Scope of declared items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854520" cy="47242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#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clude&lt;…&gt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t g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lobal1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void r1(…)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local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1;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…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void r2(…)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local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2;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…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void main()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local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3;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…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15920" y="1371240"/>
            <a:ext cx="38545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Library routines may be used throughout the program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g</a:t>
            </a:r>
            <a:r>
              <a:rPr b="0" lang="en-GB" sz="2000" spc="-1" strike="noStrike">
                <a:solidFill>
                  <a:srgbClr val="800000"/>
                </a:solidFill>
                <a:latin typeface="Times New Roman"/>
              </a:rPr>
              <a:t>lobal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1</a:t>
            </a:r>
            <a:r>
              <a:rPr b="0" lang="en-GB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may be used throughout the program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r1</a:t>
            </a:r>
            <a:r>
              <a:rPr b="0" lang="en-GB" sz="2000" spc="-1" strike="noStrike">
                <a:solidFill>
                  <a:srgbClr val="003300"/>
                </a:solidFill>
                <a:latin typeface="Times New Roman"/>
              </a:rPr>
              <a:t> may call itself or be called from </a:t>
            </a:r>
            <a:r>
              <a:rPr b="0" lang="en-GB" sz="2000" spc="-1" strike="noStrike">
                <a:solidFill>
                  <a:srgbClr val="800000"/>
                </a:solidFill>
                <a:latin typeface="Times New Roman"/>
              </a:rPr>
              <a:t>r2</a:t>
            </a:r>
            <a:r>
              <a:rPr b="0" lang="en-GB" sz="2000" spc="-1" strike="noStrike">
                <a:solidFill>
                  <a:srgbClr val="003300"/>
                </a:solidFill>
                <a:latin typeface="Times New Roman"/>
              </a:rPr>
              <a:t> or </a:t>
            </a:r>
            <a:r>
              <a:rPr b="0" lang="en-GB" sz="2000" spc="-1" strike="noStrike">
                <a:solidFill>
                  <a:srgbClr val="800000"/>
                </a:solidFill>
                <a:latin typeface="Times New Roman"/>
              </a:rPr>
              <a:t>mai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local1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may be used in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imes New Roman"/>
              </a:rPr>
              <a:t>r2</a:t>
            </a:r>
            <a:r>
              <a:rPr b="0" lang="en-GB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may </a:t>
            </a:r>
            <a:r>
              <a:rPr b="0" lang="en-GB" sz="2000" spc="-1" strike="noStrike">
                <a:solidFill>
                  <a:srgbClr val="003300"/>
                </a:solidFill>
                <a:latin typeface="Times New Roman"/>
              </a:rPr>
              <a:t>call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3300"/>
                </a:solidFill>
                <a:latin typeface="Times New Roman"/>
              </a:rPr>
              <a:t>itself or be called from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800000"/>
                </a:solidFill>
                <a:latin typeface="Times New Roman"/>
              </a:rPr>
              <a:t>mai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local2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may be used in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main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is called externally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local3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may be used in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mai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Scope of declared items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854520" cy="47242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#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clude&lt;…&gt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t g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lobal1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void r1(…)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local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1;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…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void r2(…)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local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2;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…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void main()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local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3;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…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952880" y="1508040"/>
            <a:ext cx="1599120" cy="4511520"/>
            <a:chOff x="4952880" y="1508040"/>
            <a:chExt cx="1599120" cy="4511520"/>
          </a:xfrm>
        </p:grpSpPr>
        <p:sp>
          <p:nvSpPr>
            <p:cNvPr id="62" name=""/>
            <p:cNvSpPr/>
            <p:nvPr/>
          </p:nvSpPr>
          <p:spPr>
            <a:xfrm>
              <a:off x="4987800" y="1508040"/>
              <a:ext cx="1564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Library it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952880" y="1673640"/>
              <a:ext cx="0" cy="4345920"/>
            </a:xfrm>
            <a:prstGeom prst="line">
              <a:avLst/>
            </a:prstGeom>
            <a:ln w="11448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568840" y="1905120"/>
            <a:ext cx="950760" cy="4114440"/>
            <a:chOff x="5568840" y="1905120"/>
            <a:chExt cx="950760" cy="4114440"/>
          </a:xfrm>
        </p:grpSpPr>
        <p:sp>
          <p:nvSpPr>
            <p:cNvPr id="65" name=""/>
            <p:cNvSpPr/>
            <p:nvPr/>
          </p:nvSpPr>
          <p:spPr>
            <a:xfrm>
              <a:off x="5569200" y="1905120"/>
              <a:ext cx="950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a00"/>
                  </a:solidFill>
                  <a:latin typeface="Times New Roman"/>
                </a:rPr>
                <a:t>g</a:t>
              </a:r>
              <a:r>
                <a:rPr b="0" lang="en-US" sz="2000" spc="-1" strike="noStrike">
                  <a:solidFill>
                    <a:srgbClr val="003a00"/>
                  </a:solidFill>
                  <a:latin typeface="Times New Roman"/>
                </a:rPr>
                <a:t>lobal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68840" y="2142360"/>
              <a:ext cx="0" cy="3877200"/>
            </a:xfrm>
            <a:prstGeom prst="line">
              <a:avLst/>
            </a:prstGeom>
            <a:ln w="11448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215040" y="2362320"/>
            <a:ext cx="411480" cy="3657600"/>
            <a:chOff x="6215040" y="2362320"/>
            <a:chExt cx="411480" cy="3657600"/>
          </a:xfrm>
        </p:grpSpPr>
        <p:sp>
          <p:nvSpPr>
            <p:cNvPr id="68" name=""/>
            <p:cNvSpPr/>
            <p:nvPr/>
          </p:nvSpPr>
          <p:spPr>
            <a:xfrm>
              <a:off x="6228000" y="23623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a00"/>
                  </a:solidFill>
                  <a:latin typeface="Times New Roman"/>
                </a:rPr>
                <a:t>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15040" y="2590920"/>
              <a:ext cx="0" cy="3429000"/>
            </a:xfrm>
            <a:prstGeom prst="line">
              <a:avLst/>
            </a:prstGeom>
            <a:ln w="11448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824520" y="3429000"/>
            <a:ext cx="416160" cy="2590560"/>
            <a:chOff x="6824520" y="3429000"/>
            <a:chExt cx="416160" cy="2590560"/>
          </a:xfrm>
        </p:grpSpPr>
        <p:sp>
          <p:nvSpPr>
            <p:cNvPr id="71" name=""/>
            <p:cNvSpPr/>
            <p:nvPr/>
          </p:nvSpPr>
          <p:spPr>
            <a:xfrm>
              <a:off x="6842160" y="342900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a00"/>
                  </a:solidFill>
                  <a:latin typeface="Times New Roman"/>
                </a:rPr>
                <a:t>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24520" y="3657600"/>
              <a:ext cx="0" cy="2361960"/>
            </a:xfrm>
            <a:prstGeom prst="line">
              <a:avLst/>
            </a:prstGeom>
            <a:ln w="11448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Adding forward declaration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854520" cy="4800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#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clude&lt;…&gt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t g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lobal1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void r1(…)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local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1;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…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void r2(…)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local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2;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…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void main()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local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3;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…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5920" y="1371240"/>
            <a:ext cx="38545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forward declaration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does not fully specify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It defines an interface for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 r2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The complete declaration is given later and must match the defini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extern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keyword is optiona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429000" y="2743200"/>
            <a:ext cx="411480" cy="3123720"/>
            <a:chOff x="3429000" y="2743200"/>
            <a:chExt cx="411480" cy="3123720"/>
          </a:xfrm>
        </p:grpSpPr>
        <p:sp>
          <p:nvSpPr>
            <p:cNvPr id="77" name=""/>
            <p:cNvSpPr/>
            <p:nvPr/>
          </p:nvSpPr>
          <p:spPr>
            <a:xfrm>
              <a:off x="3441960" y="274320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a00"/>
                  </a:solidFill>
                  <a:latin typeface="Times New Roman"/>
                </a:rPr>
                <a:t>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29000" y="2895480"/>
              <a:ext cx="0" cy="2971440"/>
            </a:xfrm>
            <a:prstGeom prst="line">
              <a:avLst/>
            </a:prstGeom>
            <a:ln w="11448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4038480" y="2743200"/>
            <a:ext cx="416160" cy="3123720"/>
            <a:chOff x="4038480" y="2743200"/>
            <a:chExt cx="416160" cy="3123720"/>
          </a:xfrm>
        </p:grpSpPr>
        <p:sp>
          <p:nvSpPr>
            <p:cNvPr id="80" name=""/>
            <p:cNvSpPr/>
            <p:nvPr/>
          </p:nvSpPr>
          <p:spPr>
            <a:xfrm>
              <a:off x="4056120" y="274320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a00"/>
                  </a:solidFill>
                  <a:latin typeface="Times New Roman"/>
                </a:rPr>
                <a:t>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38480" y="2895480"/>
              <a:ext cx="0" cy="2971440"/>
            </a:xfrm>
            <a:prstGeom prst="line">
              <a:avLst/>
            </a:prstGeom>
            <a:ln w="11448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611280" y="227016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urier New"/>
              </a:rPr>
              <a:t>extern void r2(…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Separate compilation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854520" cy="4800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#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clude&lt;…&gt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t g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lobal1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void r1(…)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local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1;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…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void r2(…)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local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2;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…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void main()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local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3;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…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962520" y="2666880"/>
            <a:ext cx="416160" cy="3124440"/>
            <a:chOff x="3962520" y="2666880"/>
            <a:chExt cx="416160" cy="3124440"/>
          </a:xfrm>
        </p:grpSpPr>
        <p:sp>
          <p:nvSpPr>
            <p:cNvPr id="86" name=""/>
            <p:cNvSpPr/>
            <p:nvPr/>
          </p:nvSpPr>
          <p:spPr>
            <a:xfrm>
              <a:off x="3980160" y="266688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a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003a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62520" y="2819520"/>
              <a:ext cx="0" cy="2971800"/>
            </a:xfrm>
            <a:prstGeom prst="line">
              <a:avLst/>
            </a:prstGeom>
            <a:ln w="11448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611280" y="2057400"/>
            <a:ext cx="307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00"/>
                </a:solidFill>
                <a:latin typeface="Courier New"/>
              </a:rPr>
              <a:t>extern 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</a:rPr>
              <a:t>int global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00"/>
                </a:solidFill>
                <a:latin typeface="Courier New"/>
              </a:rPr>
              <a:t>extern void r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</a:rPr>
              <a:t>3</a:t>
            </a:r>
            <a:r>
              <a:rPr b="0" lang="en-GB" sz="2000" spc="-1" strike="noStrike">
                <a:solidFill>
                  <a:srgbClr val="003300"/>
                </a:solidFill>
                <a:latin typeface="Courier New"/>
              </a:rPr>
              <a:t>(…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1295280"/>
            <a:ext cx="3854160" cy="22100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a00"/>
                </a:solidFill>
                <a:latin typeface="Courier New"/>
              </a:rPr>
              <a:t>#</a:t>
            </a:r>
            <a:r>
              <a:rPr b="1" lang="en-US" sz="1800" spc="-1" strike="noStrike">
                <a:solidFill>
                  <a:srgbClr val="003a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3a00"/>
                </a:solidFill>
                <a:latin typeface="Courier New"/>
              </a:rPr>
              <a:t>include&lt;…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a00"/>
                </a:solidFill>
                <a:latin typeface="Courier New"/>
              </a:rPr>
              <a:t>int g</a:t>
            </a:r>
            <a:r>
              <a:rPr b="1" lang="en-US" sz="1800" spc="-1" strike="noStrike">
                <a:solidFill>
                  <a:srgbClr val="003a00"/>
                </a:solidFill>
                <a:latin typeface="Courier New"/>
              </a:rPr>
              <a:t>lobal2</a:t>
            </a:r>
            <a:r>
              <a:rPr b="1" lang="en-GB" sz="1800" spc="-1" strike="noStrike">
                <a:solidFill>
                  <a:srgbClr val="003a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a00"/>
                </a:solidFill>
                <a:latin typeface="Courier New"/>
              </a:rPr>
              <a:t>void r</a:t>
            </a:r>
            <a:r>
              <a:rPr b="1" lang="en-US" sz="1800" spc="-1" strike="noStrike">
                <a:solidFill>
                  <a:srgbClr val="003a00"/>
                </a:solidFill>
                <a:latin typeface="Courier New"/>
              </a:rPr>
              <a:t>3</a:t>
            </a:r>
            <a:r>
              <a:rPr b="1" lang="en-GB" sz="1800" spc="-1" strike="noStrike">
                <a:solidFill>
                  <a:srgbClr val="003a00"/>
                </a:solidFill>
                <a:latin typeface="Courier New"/>
              </a:rPr>
              <a:t>(…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a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a00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3a00"/>
                </a:solidFill>
                <a:latin typeface="Courier New"/>
              </a:rPr>
              <a:t>local3</a:t>
            </a:r>
            <a:r>
              <a:rPr b="1" lang="en-GB" sz="1800" spc="-1" strike="noStrike">
                <a:solidFill>
                  <a:srgbClr val="003a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a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a00"/>
                </a:solidFill>
                <a:latin typeface="Courier New"/>
              </a:rPr>
              <a:t>…</a:t>
            </a:r>
            <a:r>
              <a:rPr b="1" lang="en-US" sz="1800" spc="-1" strike="noStrike">
                <a:solidFill>
                  <a:srgbClr val="003a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a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001000" y="2270160"/>
            <a:ext cx="416160" cy="1006560"/>
            <a:chOff x="8001000" y="2270160"/>
            <a:chExt cx="416160" cy="1006560"/>
          </a:xfrm>
        </p:grpSpPr>
        <p:sp>
          <p:nvSpPr>
            <p:cNvPr id="91" name=""/>
            <p:cNvSpPr/>
            <p:nvPr/>
          </p:nvSpPr>
          <p:spPr>
            <a:xfrm>
              <a:off x="8018640" y="227016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a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003a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01000" y="2406600"/>
              <a:ext cx="0" cy="870120"/>
            </a:xfrm>
            <a:prstGeom prst="line">
              <a:avLst/>
            </a:prstGeom>
            <a:ln w="11448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648320" y="3886200"/>
            <a:ext cx="3854160" cy="220968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a00"/>
                </a:solidFill>
                <a:latin typeface="Courier New"/>
              </a:rPr>
              <a:t>g++ test.cc more.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a00"/>
                </a:solidFill>
                <a:latin typeface="Courier New"/>
              </a:rPr>
              <a:t>=&gt; 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1371600"/>
            <a:ext cx="990720" cy="27468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test.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1371600"/>
            <a:ext cx="990720" cy="27468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more.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2e2478"/>
                </a:solidFill>
                <a:latin typeface="Times New Roman"/>
              </a:rPr>
              <a:t>Using a </a:t>
            </a: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header</a:t>
            </a:r>
            <a:r>
              <a:rPr b="0" i="1" lang="en-GB" sz="2800" spc="-1" strike="noStrike">
                <a:solidFill>
                  <a:srgbClr val="2e2478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f</a:t>
            </a:r>
            <a:r>
              <a:rPr b="0" i="1" lang="en-GB" sz="2800" spc="-1" strike="noStrike">
                <a:solidFill>
                  <a:srgbClr val="2e2478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le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854520" cy="4800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#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clude&lt;…&gt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t g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lobal1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void r1(…)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local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1;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…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void r2(…)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local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2;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…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void main()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local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3;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…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9240" y="175248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urier New"/>
              </a:rPr>
              <a:t># include&lt;more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1295280"/>
            <a:ext cx="3854160" cy="22100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extern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int global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extern void r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3</a:t>
            </a:r>
            <a:r>
              <a:rPr b="1" lang="en-GB" sz="1800" spc="-1" strike="noStrike">
                <a:solidFill>
                  <a:srgbClr val="003300"/>
                </a:solidFill>
                <a:latin typeface="Courier New"/>
              </a:rPr>
              <a:t>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1371600"/>
            <a:ext cx="990720" cy="27468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test.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67480" y="1371600"/>
            <a:ext cx="990720" cy="27468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more.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3733920"/>
            <a:ext cx="3854160" cy="2361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a00"/>
                </a:solidFill>
                <a:latin typeface="Courier New"/>
              </a:rPr>
              <a:t>#</a:t>
            </a:r>
            <a:r>
              <a:rPr b="1" lang="en-US" sz="1800" spc="-1" strike="noStrike">
                <a:solidFill>
                  <a:srgbClr val="003a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3a00"/>
                </a:solidFill>
                <a:latin typeface="Courier New"/>
              </a:rPr>
              <a:t>include&lt;…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a00"/>
                </a:solidFill>
                <a:latin typeface="Courier New"/>
              </a:rPr>
              <a:t>int g</a:t>
            </a:r>
            <a:r>
              <a:rPr b="1" lang="en-US" sz="1800" spc="-1" strike="noStrike">
                <a:solidFill>
                  <a:srgbClr val="003a00"/>
                </a:solidFill>
                <a:latin typeface="Courier New"/>
              </a:rPr>
              <a:t>lobal2</a:t>
            </a:r>
            <a:r>
              <a:rPr b="1" lang="en-GB" sz="1800" spc="-1" strike="noStrike">
                <a:solidFill>
                  <a:srgbClr val="003a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a00"/>
                </a:solidFill>
                <a:latin typeface="Courier New"/>
              </a:rPr>
              <a:t>void r</a:t>
            </a:r>
            <a:r>
              <a:rPr b="1" lang="en-US" sz="1800" spc="-1" strike="noStrike">
                <a:solidFill>
                  <a:srgbClr val="003a00"/>
                </a:solidFill>
                <a:latin typeface="Courier New"/>
              </a:rPr>
              <a:t>3</a:t>
            </a:r>
            <a:r>
              <a:rPr b="1" lang="en-GB" sz="1800" spc="-1" strike="noStrike">
                <a:solidFill>
                  <a:srgbClr val="003a00"/>
                </a:solidFill>
                <a:latin typeface="Courier New"/>
              </a:rPr>
              <a:t>(…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a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a00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3a00"/>
                </a:solidFill>
                <a:latin typeface="Courier New"/>
              </a:rPr>
              <a:t>local3</a:t>
            </a:r>
            <a:r>
              <a:rPr b="1" lang="en-GB" sz="1800" spc="-1" strike="noStrike">
                <a:solidFill>
                  <a:srgbClr val="003a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a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3a00"/>
                </a:solidFill>
                <a:latin typeface="Courier New"/>
              </a:rPr>
              <a:t>…</a:t>
            </a:r>
            <a:r>
              <a:rPr b="1" lang="en-US" sz="1800" spc="-1" strike="noStrike">
                <a:solidFill>
                  <a:srgbClr val="003a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a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67480" y="3809880"/>
            <a:ext cx="990720" cy="27468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more.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18080" y="403848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urier New"/>
              </a:rPr>
              <a:t># include&lt;more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5T10:27:04Z</dcterms:created>
  <dc:creator>Masood Masoodian</dc:creator>
  <dc:description/>
  <dc:language>en-US</dc:language>
  <cp:lastModifiedBy>masoodian</cp:lastModifiedBy>
  <cp:lastPrinted>2000-01-17T10:22:14Z</cp:lastPrinted>
  <dcterms:modified xsi:type="dcterms:W3CDTF">2000-04-05T00:08:39Z</dcterms:modified>
  <cp:revision>83</cp:revision>
  <dc:subject/>
  <dc:title>Lecture 1: C++ Review</dc:title>
</cp:coreProperties>
</file>