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4400"/>
            <a:ext cx="542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17-</a:t>
            </a:r>
            <a:fld id="{F1A3F0AA-C7D8-4EED-887E-AD6F520349DE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2e2478"/>
                </a:solidFill>
                <a:latin typeface="Times New Roman"/>
              </a:rPr>
              <a:t>Programming</a:t>
            </a: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onstructor fun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73032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en an object is created it may need initializ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itialization can be done by the programm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it_tree(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may be forgott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might be done more than o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has to be done every time an object is instantia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14760" y="1087560"/>
            <a:ext cx="4016520" cy="2617200"/>
            <a:chOff x="4514760" y="1087560"/>
            <a:chExt cx="4016520" cy="2617200"/>
          </a:xfrm>
        </p:grpSpPr>
        <p:sp>
          <p:nvSpPr>
            <p:cNvPr id="117" name=""/>
            <p:cNvSpPr/>
            <p:nvPr/>
          </p:nvSpPr>
          <p:spPr>
            <a:xfrm>
              <a:off x="4514760" y="1314360"/>
              <a:ext cx="4016520" cy="239040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void init_tree() {root = NULL; max_value = 0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01400" y="108756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33840" y="3687840"/>
            <a:ext cx="3997440" cy="2436840"/>
            <a:chOff x="4533840" y="3687840"/>
            <a:chExt cx="3997440" cy="2436840"/>
          </a:xfrm>
        </p:grpSpPr>
        <p:sp>
          <p:nvSpPr>
            <p:cNvPr id="120" name=""/>
            <p:cNvSpPr/>
            <p:nvPr/>
          </p:nvSpPr>
          <p:spPr>
            <a:xfrm>
              <a:off x="4533840" y="3929040"/>
              <a:ext cx="3997440" cy="21956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tree1, tree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ree1.init_tree();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ree2.init_tree();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tree1.insert(45);  tree2.insert(2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1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2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8120" y="368784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905520" y="4454640"/>
            <a:ext cx="1490760" cy="194760"/>
            <a:chOff x="6905520" y="4454640"/>
            <a:chExt cx="1490760" cy="194760"/>
          </a:xfrm>
        </p:grpSpPr>
        <p:sp>
          <p:nvSpPr>
            <p:cNvPr id="123" name=""/>
            <p:cNvSpPr/>
            <p:nvPr/>
          </p:nvSpPr>
          <p:spPr>
            <a:xfrm>
              <a:off x="7389720" y="4454640"/>
              <a:ext cx="10065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stant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05520" y="4572000"/>
              <a:ext cx="44784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05520" y="4797360"/>
            <a:ext cx="1502280" cy="194760"/>
            <a:chOff x="6905520" y="4797360"/>
            <a:chExt cx="1502280" cy="194760"/>
          </a:xfrm>
        </p:grpSpPr>
        <p:sp>
          <p:nvSpPr>
            <p:cNvPr id="126" name=""/>
            <p:cNvSpPr/>
            <p:nvPr/>
          </p:nvSpPr>
          <p:spPr>
            <a:xfrm>
              <a:off x="7380000" y="4797360"/>
              <a:ext cx="1027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905520" y="4915080"/>
              <a:ext cx="44784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43560" y="4656240"/>
            <a:ext cx="1590480" cy="525240"/>
          </a:xfrm>
          <a:custGeom>
            <a:avLst/>
            <a:gdLst/>
            <a:ahLst/>
            <a:rect l="l" t="t" r="r" b="b"/>
            <a:pathLst>
              <a:path w="1110" h="391">
                <a:moveTo>
                  <a:pt x="168" y="49"/>
                </a:moveTo>
                <a:cubicBezTo>
                  <a:pt x="306" y="1"/>
                  <a:pt x="826" y="0"/>
                  <a:pt x="960" y="49"/>
                </a:cubicBezTo>
                <a:cubicBezTo>
                  <a:pt x="1094" y="98"/>
                  <a:pt x="1110" y="295"/>
                  <a:pt x="972" y="343"/>
                </a:cubicBezTo>
                <a:cubicBezTo>
                  <a:pt x="834" y="391"/>
                  <a:pt x="264" y="386"/>
                  <a:pt x="132" y="337"/>
                </a:cubicBezTo>
                <a:cubicBezTo>
                  <a:pt x="0" y="288"/>
                  <a:pt x="30" y="97"/>
                  <a:pt x="168" y="49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61080" y="2486160"/>
            <a:ext cx="3625560" cy="333360"/>
          </a:xfrm>
          <a:custGeom>
            <a:avLst/>
            <a:gdLst/>
            <a:ahLst/>
            <a:rect l="l" t="t" r="r" b="b"/>
            <a:pathLst>
              <a:path w="1570" h="210">
                <a:moveTo>
                  <a:pt x="4" y="108"/>
                </a:moveTo>
                <a:cubicBezTo>
                  <a:pt x="16" y="73"/>
                  <a:pt x="1" y="105"/>
                  <a:pt x="28" y="78"/>
                </a:cubicBezTo>
                <a:cubicBezTo>
                  <a:pt x="97" y="9"/>
                  <a:pt x="170" y="22"/>
                  <a:pt x="268" y="18"/>
                </a:cubicBezTo>
                <a:cubicBezTo>
                  <a:pt x="473" y="23"/>
                  <a:pt x="671" y="15"/>
                  <a:pt x="874" y="0"/>
                </a:cubicBezTo>
                <a:cubicBezTo>
                  <a:pt x="1062" y="9"/>
                  <a:pt x="1249" y="19"/>
                  <a:pt x="1438" y="24"/>
                </a:cubicBezTo>
                <a:cubicBezTo>
                  <a:pt x="1477" y="29"/>
                  <a:pt x="1494" y="37"/>
                  <a:pt x="1528" y="48"/>
                </a:cubicBezTo>
                <a:cubicBezTo>
                  <a:pt x="1539" y="59"/>
                  <a:pt x="1551" y="69"/>
                  <a:pt x="1558" y="84"/>
                </a:cubicBezTo>
                <a:cubicBezTo>
                  <a:pt x="1563" y="96"/>
                  <a:pt x="1570" y="120"/>
                  <a:pt x="1570" y="120"/>
                </a:cubicBezTo>
                <a:cubicBezTo>
                  <a:pt x="1547" y="190"/>
                  <a:pt x="1460" y="201"/>
                  <a:pt x="1396" y="210"/>
                </a:cubicBezTo>
                <a:cubicBezTo>
                  <a:pt x="1186" y="194"/>
                  <a:pt x="996" y="189"/>
                  <a:pt x="778" y="186"/>
                </a:cubicBezTo>
                <a:cubicBezTo>
                  <a:pt x="636" y="172"/>
                  <a:pt x="493" y="180"/>
                  <a:pt x="352" y="198"/>
                </a:cubicBezTo>
                <a:cubicBezTo>
                  <a:pt x="160" y="191"/>
                  <a:pt x="239" y="201"/>
                  <a:pt x="112" y="180"/>
                </a:cubicBezTo>
                <a:cubicBezTo>
                  <a:pt x="88" y="176"/>
                  <a:pt x="74" y="175"/>
                  <a:pt x="52" y="168"/>
                </a:cubicBezTo>
                <a:cubicBezTo>
                  <a:pt x="40" y="164"/>
                  <a:pt x="16" y="156"/>
                  <a:pt x="16" y="156"/>
                </a:cubicBezTo>
                <a:cubicBezTo>
                  <a:pt x="12" y="144"/>
                  <a:pt x="0" y="132"/>
                  <a:pt x="4" y="120"/>
                </a:cubicBezTo>
                <a:cubicBezTo>
                  <a:pt x="6" y="114"/>
                  <a:pt x="10" y="108"/>
                  <a:pt x="10" y="102"/>
                </a:cubicBezTo>
                <a:cubicBezTo>
                  <a:pt x="10" y="99"/>
                  <a:pt x="6" y="106"/>
                  <a:pt x="4" y="108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onstructor fun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73032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itialization can be done automatically using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nstructor fun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onstructor function has the same name as the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onstructor function has no return 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14760" y="1087560"/>
            <a:ext cx="4016520" cy="2855880"/>
            <a:chOff x="4514760" y="1087560"/>
            <a:chExt cx="4016520" cy="2855880"/>
          </a:xfrm>
        </p:grpSpPr>
        <p:sp>
          <p:nvSpPr>
            <p:cNvPr id="133" name=""/>
            <p:cNvSpPr/>
            <p:nvPr/>
          </p:nvSpPr>
          <p:spPr>
            <a:xfrm>
              <a:off x="4514760" y="1314360"/>
              <a:ext cx="4016520" cy="262908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number_tree();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01400" y="108756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4240" y="3906720"/>
            <a:ext cx="3692520" cy="2170080"/>
            <a:chOff x="714240" y="3906720"/>
            <a:chExt cx="3692520" cy="2170080"/>
          </a:xfrm>
        </p:grpSpPr>
        <p:sp>
          <p:nvSpPr>
            <p:cNvPr id="136" name=""/>
            <p:cNvSpPr/>
            <p:nvPr/>
          </p:nvSpPr>
          <p:spPr>
            <a:xfrm>
              <a:off x="714240" y="4148280"/>
              <a:ext cx="3692520" cy="192852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tree1, tree2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tree1.insert(45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tree2.insert(2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1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out &lt;&lt; tree2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74880" y="390672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66840" y="4511520"/>
            <a:ext cx="1292760" cy="547920"/>
            <a:chOff x="3066840" y="4511520"/>
            <a:chExt cx="1292760" cy="547920"/>
          </a:xfrm>
        </p:grpSpPr>
        <p:sp>
          <p:nvSpPr>
            <p:cNvPr id="139" name=""/>
            <p:cNvSpPr/>
            <p:nvPr/>
          </p:nvSpPr>
          <p:spPr>
            <a:xfrm>
              <a:off x="3331800" y="4511520"/>
              <a:ext cx="1027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stant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66840" y="4791240"/>
              <a:ext cx="36180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24480" y="3925800"/>
            <a:ext cx="4016160" cy="2151000"/>
            <a:chOff x="4524480" y="3925800"/>
            <a:chExt cx="4016160" cy="2151000"/>
          </a:xfrm>
        </p:grpSpPr>
        <p:sp>
          <p:nvSpPr>
            <p:cNvPr id="142" name=""/>
            <p:cNvSpPr/>
            <p:nvPr/>
          </p:nvSpPr>
          <p:spPr>
            <a:xfrm>
              <a:off x="4524480" y="4152960"/>
              <a:ext cx="4016160" cy="19238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::number_tree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root = NULL;   max_value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1640" y="392580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705200" y="2503440"/>
            <a:ext cx="1552680" cy="287280"/>
          </a:xfrm>
          <a:custGeom>
            <a:avLst/>
            <a:gdLst/>
            <a:ahLst/>
            <a:rect l="l" t="t" r="r" b="b"/>
            <a:pathLst>
              <a:path w="1110" h="391">
                <a:moveTo>
                  <a:pt x="168" y="49"/>
                </a:moveTo>
                <a:cubicBezTo>
                  <a:pt x="306" y="1"/>
                  <a:pt x="826" y="0"/>
                  <a:pt x="960" y="49"/>
                </a:cubicBezTo>
                <a:cubicBezTo>
                  <a:pt x="1094" y="98"/>
                  <a:pt x="1110" y="295"/>
                  <a:pt x="972" y="343"/>
                </a:cubicBezTo>
                <a:cubicBezTo>
                  <a:pt x="834" y="391"/>
                  <a:pt x="264" y="386"/>
                  <a:pt x="132" y="337"/>
                </a:cubicBezTo>
                <a:cubicBezTo>
                  <a:pt x="0" y="288"/>
                  <a:pt x="30" y="97"/>
                  <a:pt x="168" y="49"/>
                </a:cubicBezTo>
                <a:close/>
              </a:path>
            </a:pathLst>
          </a:custGeom>
          <a:noFill/>
          <a:ln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96000" y="1190520"/>
            <a:ext cx="3463920" cy="4905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540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 number_tre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eft, *righ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 *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it_tree(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sert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umber_tree my_tre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it_tre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sert(234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417816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where everything is publi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an have both private and public par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an be used interchangeably with the appropriate access specifica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convention is to use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nly when access to all the parts is publi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es and member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8600" y="1190520"/>
            <a:ext cx="3882960" cy="4905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540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 number_tre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eft, *righ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 *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it_tree(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sert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umber_tree my_tre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it_tre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sert(234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97800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can hav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member attributes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(data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member functions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behaviour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ember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 class can b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rivat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: accessible to those inside a 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: accessible to those outside a 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rotected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: like private but also accessible to a selected group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ose outside a class can only interact with it by calling its public member func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message pass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01040" y="1552680"/>
            <a:ext cx="846360" cy="2676600"/>
            <a:chOff x="7601040" y="1552680"/>
            <a:chExt cx="846360" cy="2676600"/>
          </a:xfrm>
        </p:grpSpPr>
        <p:sp>
          <p:nvSpPr>
            <p:cNvPr id="52" name=""/>
            <p:cNvSpPr/>
            <p:nvPr/>
          </p:nvSpPr>
          <p:spPr>
            <a:xfrm>
              <a:off x="7601040" y="1552680"/>
              <a:ext cx="162000" cy="2676600"/>
            </a:xfrm>
            <a:custGeom>
              <a:avLst/>
              <a:gdLst>
                <a:gd name="textAreaLeft" fmla="*/ 0 w 162000"/>
                <a:gd name="textAreaRight" fmla="*/ 58320 w 162000"/>
                <a:gd name="textAreaTop" fmla="*/ 69480 h 2676600"/>
                <a:gd name="textAreaBottom" fmla="*/ 2607120 h 267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3773"/>
                  </a:lnTo>
                  <a:cubicBezTo>
                    <a:pt x="10800" y="4673"/>
                    <a:pt x="16200" y="5573"/>
                    <a:pt x="21600" y="5573"/>
                  </a:cubicBezTo>
                  <a:cubicBezTo>
                    <a:pt x="16200" y="5573"/>
                    <a:pt x="10800" y="6473"/>
                    <a:pt x="10800" y="737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91480" y="2106720"/>
              <a:ext cx="65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memb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724880" y="3324240"/>
            <a:ext cx="739080" cy="895320"/>
            <a:chOff x="7724880" y="3324240"/>
            <a:chExt cx="739080" cy="895320"/>
          </a:xfrm>
        </p:grpSpPr>
        <p:sp>
          <p:nvSpPr>
            <p:cNvPr id="55" name=""/>
            <p:cNvSpPr/>
            <p:nvPr/>
          </p:nvSpPr>
          <p:spPr>
            <a:xfrm>
              <a:off x="7724880" y="3324240"/>
              <a:ext cx="88920" cy="89532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3040 h 895320"/>
                <a:gd name="textAreaBottom" fmla="*/ 872280 h 89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30"/>
                  </a:lnTo>
                  <a:cubicBezTo>
                    <a:pt x="10800" y="10130"/>
                    <a:pt x="16200" y="11030"/>
                    <a:pt x="21600" y="11030"/>
                  </a:cubicBezTo>
                  <a:cubicBezTo>
                    <a:pt x="16200" y="11030"/>
                    <a:pt x="10800" y="11930"/>
                    <a:pt x="10800" y="1283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2e2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6840" y="36496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e2478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124760" y="5248440"/>
            <a:ext cx="1363680" cy="466560"/>
            <a:chOff x="7124760" y="5248440"/>
            <a:chExt cx="1363680" cy="466560"/>
          </a:xfrm>
        </p:grpSpPr>
        <p:sp>
          <p:nvSpPr>
            <p:cNvPr id="58" name=""/>
            <p:cNvSpPr/>
            <p:nvPr/>
          </p:nvSpPr>
          <p:spPr>
            <a:xfrm>
              <a:off x="7124760" y="5248440"/>
              <a:ext cx="152280" cy="466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1880 h 466560"/>
                <a:gd name="textAreaBottom" fmla="*/ 45468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7560" y="534528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message pa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Defining a member func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67240" y="1190520"/>
            <a:ext cx="4102200" cy="4905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number_tr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truct node {int value; node *left, *right; } *roo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oid init_tree() {root = NUL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insert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del(int i)…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void number_tree::insert (in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node *temp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umber_tree my_tre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y_tree.init_tre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y_tree.insert(234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97800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member function can be defined in one of two way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lin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in the interfa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outside the interface using the class name (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qualified nam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body of th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lin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unctions are included in the interfa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maller fun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body of the larger functions are separated from their prototype in the interfa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use th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::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operator to associate a function with a clas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29240" y="5148360"/>
            <a:ext cx="1809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my_tree.root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2e2478"/>
                </a:solidFill>
                <a:latin typeface="Times New Roman"/>
              </a:rPr>
              <a:t>organisation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43560" y="1409760"/>
            <a:ext cx="4016160" cy="19429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lass number_tre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struct node {int value; node *left, *right; } *roo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init_tree() {root = NUL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insert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del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80664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mall classes can be in the same file as the program that uses the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Generally each class is implemented in a separate fi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header file is used to separate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interface from its bod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y program or class which uses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other class should include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s header (interface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can be used by more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an one class or progra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05440" y="3610080"/>
            <a:ext cx="2654280" cy="23619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#include “numtree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number_tree::insert (int va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ode *temp = roo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number_tree::del (int va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486320"/>
            <a:ext cx="1901880" cy="14857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#include “numtree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umber_tree my_tre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y_tree.init_tre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y_tree.insert(234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0200" y="118260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numtree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60720" y="338292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numtree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9400" y="42498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rog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rivate member function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80664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may also hav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iva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ember fun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rivate member functions of a class are used only by the class itself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rivate member functions are defined (implemented) just like public member func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4480" y="3876840"/>
            <a:ext cx="4016160" cy="21812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#include “numtree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number_tree::insert (int va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ode *temp = roo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ree_insert(val, tem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void number_list::tree_insert(int val, node *&amp;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24480" y="1182600"/>
            <a:ext cx="4016160" cy="2427480"/>
            <a:chOff x="4524480" y="1182600"/>
            <a:chExt cx="4016160" cy="2427480"/>
          </a:xfrm>
        </p:grpSpPr>
        <p:sp>
          <p:nvSpPr>
            <p:cNvPr id="76" name=""/>
            <p:cNvSpPr/>
            <p:nvPr/>
          </p:nvSpPr>
          <p:spPr>
            <a:xfrm>
              <a:off x="4524480" y="1409760"/>
              <a:ext cx="4016160" cy="220032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void tree_insert(int val, *&amp;node roo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it_tree() {root = NULL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10400" y="118260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541640" y="36496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numtree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2760" y="4335480"/>
            <a:ext cx="1901880" cy="1722600"/>
            <a:chOff x="2552760" y="4335480"/>
            <a:chExt cx="1901880" cy="1722600"/>
          </a:xfrm>
        </p:grpSpPr>
        <p:sp>
          <p:nvSpPr>
            <p:cNvPr id="80" name=""/>
            <p:cNvSpPr/>
            <p:nvPr/>
          </p:nvSpPr>
          <p:spPr>
            <a:xfrm>
              <a:off x="2552760" y="4572000"/>
              <a:ext cx="1901880" cy="148608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my_tre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it_tre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sert(2345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79640" y="433548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ublic member attribut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80664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may also hav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ublic member attribut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ublic member attributes should be avoided if possi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24480" y="1182600"/>
            <a:ext cx="4016160" cy="2427480"/>
            <a:chOff x="4524480" y="1182600"/>
            <a:chExt cx="4016160" cy="2427480"/>
          </a:xfrm>
        </p:grpSpPr>
        <p:sp>
          <p:nvSpPr>
            <p:cNvPr id="85" name=""/>
            <p:cNvSpPr/>
            <p:nvPr/>
          </p:nvSpPr>
          <p:spPr>
            <a:xfrm>
              <a:off x="4524480" y="1409760"/>
              <a:ext cx="4016160" cy="220032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it_tree() {root = NULL; max_value = 0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10400" y="118260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24480" y="3659040"/>
            <a:ext cx="4016160" cy="2408400"/>
            <a:chOff x="4524480" y="3659040"/>
            <a:chExt cx="4016160" cy="2408400"/>
          </a:xfrm>
        </p:grpSpPr>
        <p:sp>
          <p:nvSpPr>
            <p:cNvPr id="88" name=""/>
            <p:cNvSpPr/>
            <p:nvPr/>
          </p:nvSpPr>
          <p:spPr>
            <a:xfrm>
              <a:off x="4524480" y="3886200"/>
              <a:ext cx="4016160" cy="2181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number_tree::insert (int val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ode *temp = 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if (val &gt; max_value) max_value = 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…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41280" y="365904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52760" y="4125960"/>
            <a:ext cx="1901880" cy="1941480"/>
            <a:chOff x="2552760" y="4125960"/>
            <a:chExt cx="1901880" cy="1941480"/>
          </a:xfrm>
        </p:grpSpPr>
        <p:sp>
          <p:nvSpPr>
            <p:cNvPr id="91" name=""/>
            <p:cNvSpPr/>
            <p:nvPr/>
          </p:nvSpPr>
          <p:spPr>
            <a:xfrm>
              <a:off x="2552760" y="4367160"/>
              <a:ext cx="1901880" cy="170028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my_tre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it_tre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sert(2345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cout &lt;&lt;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79640" y="412596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ublic member attribut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80664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may also hav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ublic member attribut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ublic member attributes should be avoided if possi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is better to provide public member functions to access attribut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14760" y="1182600"/>
            <a:ext cx="4016520" cy="2617920"/>
            <a:chOff x="4514760" y="1182600"/>
            <a:chExt cx="4016520" cy="2617920"/>
          </a:xfrm>
        </p:grpSpPr>
        <p:sp>
          <p:nvSpPr>
            <p:cNvPr id="96" name=""/>
            <p:cNvSpPr/>
            <p:nvPr/>
          </p:nvSpPr>
          <p:spPr>
            <a:xfrm>
              <a:off x="4514760" y="1409760"/>
              <a:ext cx="4016520" cy="239076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it_tree() {root = NULL; max_value = 0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1400" y="118260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14760" y="4135320"/>
            <a:ext cx="4016520" cy="1932120"/>
            <a:chOff x="4514760" y="4135320"/>
            <a:chExt cx="4016520" cy="1932120"/>
          </a:xfrm>
        </p:grpSpPr>
        <p:sp>
          <p:nvSpPr>
            <p:cNvPr id="99" name=""/>
            <p:cNvSpPr/>
            <p:nvPr/>
          </p:nvSpPr>
          <p:spPr>
            <a:xfrm>
              <a:off x="4514760" y="4362480"/>
              <a:ext cx="4016520" cy="170496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number_tree::insert (int val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ode *temp = 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if (val &gt; max_value) max_value = 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…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31920" y="41353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19280" y="4125960"/>
            <a:ext cx="2806560" cy="1941480"/>
            <a:chOff x="1619280" y="4125960"/>
            <a:chExt cx="2806560" cy="1941480"/>
          </a:xfrm>
        </p:grpSpPr>
        <p:sp>
          <p:nvSpPr>
            <p:cNvPr id="102" name=""/>
            <p:cNvSpPr/>
            <p:nvPr/>
          </p:nvSpPr>
          <p:spPr>
            <a:xfrm>
              <a:off x="1619280" y="4367160"/>
              <a:ext cx="2806560" cy="170028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#include “numtree.h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main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number_tree my_tre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it_tre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my_tree.insert(2345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cout &lt;&lt; my_tree.get_max_valu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13040" y="412596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prog.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es and object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6600" y="1161720"/>
            <a:ext cx="373032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class defines a new type or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empla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which new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bject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can b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rea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object is 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stan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 clas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as the same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as the same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</a:rPr>
              <a:t>behaviou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object is like a variable created by using a class templat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as a unique variable nam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ts member attributes have their own valu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14760" y="1087560"/>
            <a:ext cx="4016520" cy="2617200"/>
            <a:chOff x="4514760" y="1087560"/>
            <a:chExt cx="4016520" cy="2617200"/>
          </a:xfrm>
        </p:grpSpPr>
        <p:sp>
          <p:nvSpPr>
            <p:cNvPr id="107" name=""/>
            <p:cNvSpPr/>
            <p:nvPr/>
          </p:nvSpPr>
          <p:spPr>
            <a:xfrm>
              <a:off x="4514760" y="1314360"/>
              <a:ext cx="4016520" cy="239040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class number_tre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riv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struct node {int value; node *left, *right; } *roo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max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public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it_tree() {root = NULL; max_value = 0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insert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void del(int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nt get_max_value() {return max_value;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0476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01400" y="1087560"/>
              <a:ext cx="72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c0128"/>
                  </a:solidFill>
                  <a:latin typeface="Times New Roman"/>
                </a:rPr>
                <a:t>numtree.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33840" y="3929040"/>
            <a:ext cx="3997440" cy="219564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#include “numtree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number_tree tree1, tree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tree1.init_tree()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tree2.init_tree()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tree1.insert(45);  tree2.insert(2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out &lt;&lt; tree1.get_max_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cout &lt;&lt; tree2.get_max_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762120"/>
                <a:tab algn="l" pos="104760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18120" y="36878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rog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953040" y="4264200"/>
            <a:ext cx="1443240" cy="583560"/>
            <a:chOff x="6953040" y="4264200"/>
            <a:chExt cx="1443240" cy="583560"/>
          </a:xfrm>
        </p:grpSpPr>
        <p:sp>
          <p:nvSpPr>
            <p:cNvPr id="112" name=""/>
            <p:cNvSpPr/>
            <p:nvPr/>
          </p:nvSpPr>
          <p:spPr>
            <a:xfrm>
              <a:off x="7389720" y="4264200"/>
              <a:ext cx="10065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decl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0128"/>
                  </a:solidFill>
                  <a:latin typeface="Times New Roman"/>
                </a:rPr>
                <a:t>instant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53040" y="4572000"/>
              <a:ext cx="447480" cy="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6-02T00:56:40Z</dcterms:modified>
  <cp:revision>195</cp:revision>
  <dc:subject/>
  <dc:title>Lecture slides for 0657.208</dc:title>
</cp:coreProperties>
</file>