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4400"/>
            <a:ext cx="542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18-</a:t>
            </a:r>
            <a:fld id="{D21AA65A-36DA-4E7A-A3EE-5BC0A7024FE4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2e2478"/>
                </a:solidFill>
                <a:latin typeface="Times New Roman"/>
              </a:rPr>
              <a:t>Programming</a:t>
            </a: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 hierarchies 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25640" y="1162080"/>
            <a:ext cx="3902040" cy="25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derived class may have more than one base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temp_employe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nherits from both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temporary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1314360"/>
            <a:ext cx="3873240" cy="24577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8600" y="4043520"/>
            <a:ext cx="3845160" cy="17953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temp_employee :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 employe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 tempora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floa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hourly_rat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4043520"/>
            <a:ext cx="3873240" cy="17953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tempora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uration_employed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ccess control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97000" y="1161720"/>
            <a:ext cx="373068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ll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embers of a base class are accessible to its derived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access_specifi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the derived class allows it to make the public members of its base clas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rivat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ublic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rotect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erived class has no access to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ivat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members of its base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unless special permission has been give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6440" y="1314360"/>
            <a:ext cx="4016160" cy="24289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440" y="3967200"/>
            <a:ext cx="4016160" cy="17384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manager : 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access_specifi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ccessing member function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6520" y="1162080"/>
            <a:ext cx="3730680" cy="14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derived class can access public member functions of its base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6440" y="2390760"/>
            <a:ext cx="4016160" cy="36100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void employee::prin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cout &lt;&lt; name &lt;&lt; " " &lt;&lt; age &lt;&lt;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15080" y="2538360"/>
            <a:ext cx="3682800" cy="1719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manager : public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5080" y="4481640"/>
            <a:ext cx="3673440" cy="15192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anager m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e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1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1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Overriding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96520" y="1162080"/>
            <a:ext cx="3730680" cy="14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derived class can redefine (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overrid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 a public member function of its base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440" y="2400480"/>
            <a:ext cx="4016160" cy="3600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void employee::prin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cout &lt;&lt; name &lt;&lt; " " &lt;&lt; age &lt;&lt;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3800" y="1233360"/>
            <a:ext cx="3664080" cy="31100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manager : public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void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::prin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::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cout &lt;&lt;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24440" y="4519440"/>
            <a:ext cx="3673440" cy="14814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e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anager m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1.print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1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Benefits of inheritanc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heritance is powerful, because it allows </a:t>
            </a: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specialised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subclasse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o be created from  a more 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general super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There are a number of benefits in using </a:t>
            </a: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inheritance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software reusability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the code that provides behaviour is not rewritten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code sharing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many subclasses may share the same super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consistency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subclasses can share the same behaviou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libraries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general software libraries can be develop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rapid prototyping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can reuse existing software to demonstrate idea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polymorphism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high level superclasses can be develop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information hiding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only need to understand the interface of the par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osts of inheritanc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re are various costs associated with using inherit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is is a draw back of all object oriented programming languag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++ addresses some of these probl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costs of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 using inheritanc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r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execution speed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ember functions are less specific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less efficient than </a:t>
            </a:r>
            <a:r>
              <a:rPr b="0" lang="en-GB" sz="1600" spc="-1" strike="noStrike">
                <a:solidFill>
                  <a:srgbClr val="003300"/>
                </a:solidFill>
                <a:latin typeface="Times New Roman"/>
              </a:rPr>
              <a:t>specialised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cod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rogram size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s increased to deal with more general cas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message-passing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ore costly to call functions from other class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complexity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grams become more comple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individual classes are easier to develo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program flow becomes more complicated to understand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Function overloading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84480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might be convenient to provide several ways of initializing an objec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re can be more than one constructor function (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overload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++ uses the appropriate function based on its type and argumen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14760" y="1087560"/>
            <a:ext cx="4016520" cy="2855880"/>
            <a:chOff x="4514760" y="1087560"/>
            <a:chExt cx="4016520" cy="2855880"/>
          </a:xfrm>
        </p:grpSpPr>
        <p:sp>
          <p:nvSpPr>
            <p:cNvPr id="48" name=""/>
            <p:cNvSpPr/>
            <p:nvPr/>
          </p:nvSpPr>
          <p:spPr>
            <a:xfrm>
              <a:off x="4514760" y="1314360"/>
              <a:ext cx="4016520" cy="262908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number_tre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number_tree(int i) ;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get_max_value() {return max_value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01400" y="108756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14240" y="3906720"/>
            <a:ext cx="3692520" cy="2170080"/>
            <a:chOff x="714240" y="3906720"/>
            <a:chExt cx="3692520" cy="2170080"/>
          </a:xfrm>
        </p:grpSpPr>
        <p:sp>
          <p:nvSpPr>
            <p:cNvPr id="51" name=""/>
            <p:cNvSpPr/>
            <p:nvPr/>
          </p:nvSpPr>
          <p:spPr>
            <a:xfrm>
              <a:off x="714240" y="4148280"/>
              <a:ext cx="3692520" cy="192852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tree1(45), tree2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// tree1.insert(45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tree2.insert(2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1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2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74880" y="390672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066840" y="4511520"/>
            <a:ext cx="1292760" cy="547920"/>
            <a:chOff x="3066840" y="4511520"/>
            <a:chExt cx="1292760" cy="547920"/>
          </a:xfrm>
        </p:grpSpPr>
        <p:sp>
          <p:nvSpPr>
            <p:cNvPr id="54" name=""/>
            <p:cNvSpPr/>
            <p:nvPr/>
          </p:nvSpPr>
          <p:spPr>
            <a:xfrm>
              <a:off x="3331800" y="4511520"/>
              <a:ext cx="1027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stant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066840" y="4791240"/>
              <a:ext cx="36180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24480" y="3925800"/>
            <a:ext cx="4016160" cy="2151000"/>
            <a:chOff x="4524480" y="3925800"/>
            <a:chExt cx="4016160" cy="2151000"/>
          </a:xfrm>
        </p:grpSpPr>
        <p:sp>
          <p:nvSpPr>
            <p:cNvPr id="57" name=""/>
            <p:cNvSpPr/>
            <p:nvPr/>
          </p:nvSpPr>
          <p:spPr>
            <a:xfrm>
              <a:off x="4524480" y="4152960"/>
              <a:ext cx="4016160" cy="19238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::number_tree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root = NULL;   max_value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::number_tree(int i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root = NULL;   insert(i);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ax_value = i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41640" y="392580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705200" y="2494080"/>
            <a:ext cx="1866960" cy="563400"/>
          </a:xfrm>
          <a:custGeom>
            <a:avLst/>
            <a:gdLst/>
            <a:ahLst/>
            <a:rect l="l" t="t" r="r" b="b"/>
            <a:pathLst>
              <a:path w="1110" h="391">
                <a:moveTo>
                  <a:pt x="168" y="49"/>
                </a:moveTo>
                <a:cubicBezTo>
                  <a:pt x="306" y="1"/>
                  <a:pt x="826" y="0"/>
                  <a:pt x="960" y="49"/>
                </a:cubicBezTo>
                <a:cubicBezTo>
                  <a:pt x="1094" y="98"/>
                  <a:pt x="1110" y="295"/>
                  <a:pt x="972" y="343"/>
                </a:cubicBezTo>
                <a:cubicBezTo>
                  <a:pt x="834" y="391"/>
                  <a:pt x="264" y="386"/>
                  <a:pt x="132" y="337"/>
                </a:cubicBezTo>
                <a:cubicBezTo>
                  <a:pt x="0" y="288"/>
                  <a:pt x="30" y="97"/>
                  <a:pt x="168" y="49"/>
                </a:cubicBezTo>
                <a:close/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estructor fun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73032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may be necessary to clean up when an object in no longer u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ynamic memory allo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ree up the memory spa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structor func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name is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~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proceeding the class nam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destructor function has no return ty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14760" y="1087560"/>
            <a:ext cx="4016520" cy="3093840"/>
            <a:chOff x="4514760" y="1087560"/>
            <a:chExt cx="4016520" cy="3093840"/>
          </a:xfrm>
        </p:grpSpPr>
        <p:sp>
          <p:nvSpPr>
            <p:cNvPr id="63" name=""/>
            <p:cNvSpPr/>
            <p:nvPr/>
          </p:nvSpPr>
          <p:spPr>
            <a:xfrm>
              <a:off x="4514760" y="1314360"/>
              <a:ext cx="4016520" cy="28670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ete_tree(node *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~number_tree();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get_max_value() {return max_value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01400" y="108756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14240" y="3906720"/>
            <a:ext cx="3692520" cy="2170080"/>
            <a:chOff x="714240" y="3906720"/>
            <a:chExt cx="3692520" cy="2170080"/>
          </a:xfrm>
        </p:grpSpPr>
        <p:sp>
          <p:nvSpPr>
            <p:cNvPr id="66" name=""/>
            <p:cNvSpPr/>
            <p:nvPr/>
          </p:nvSpPr>
          <p:spPr>
            <a:xfrm>
              <a:off x="714240" y="4148280"/>
              <a:ext cx="3692520" cy="192852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tree1, tree2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tree1.insert(45); tree2.insert(2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1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2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74880" y="390672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00240" y="5645160"/>
            <a:ext cx="1299240" cy="182880"/>
            <a:chOff x="3000240" y="5645160"/>
            <a:chExt cx="1299240" cy="182880"/>
          </a:xfrm>
        </p:grpSpPr>
        <p:sp>
          <p:nvSpPr>
            <p:cNvPr id="69" name=""/>
            <p:cNvSpPr/>
            <p:nvPr/>
          </p:nvSpPr>
          <p:spPr>
            <a:xfrm>
              <a:off x="3395160" y="564516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de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000240" y="5743440"/>
              <a:ext cx="36216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24480" y="4135320"/>
            <a:ext cx="4016160" cy="1922400"/>
            <a:chOff x="4524480" y="4135320"/>
            <a:chExt cx="4016160" cy="1922400"/>
          </a:xfrm>
        </p:grpSpPr>
        <p:sp>
          <p:nvSpPr>
            <p:cNvPr id="72" name=""/>
            <p:cNvSpPr/>
            <p:nvPr/>
          </p:nvSpPr>
          <p:spPr>
            <a:xfrm>
              <a:off x="4524480" y="4362480"/>
              <a:ext cx="4016160" cy="16952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::~number_tree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delete_tree(roo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number_tree::delete_tree(node *root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41640" y="413532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734000" y="2989440"/>
            <a:ext cx="1552680" cy="287280"/>
          </a:xfrm>
          <a:custGeom>
            <a:avLst/>
            <a:gdLst/>
            <a:ahLst/>
            <a:rect l="l" t="t" r="r" b="b"/>
            <a:pathLst>
              <a:path w="1110" h="391">
                <a:moveTo>
                  <a:pt x="168" y="49"/>
                </a:moveTo>
                <a:cubicBezTo>
                  <a:pt x="306" y="1"/>
                  <a:pt x="826" y="0"/>
                  <a:pt x="960" y="49"/>
                </a:cubicBezTo>
                <a:cubicBezTo>
                  <a:pt x="1094" y="98"/>
                  <a:pt x="1110" y="295"/>
                  <a:pt x="972" y="343"/>
                </a:cubicBezTo>
                <a:cubicBezTo>
                  <a:pt x="834" y="391"/>
                  <a:pt x="264" y="386"/>
                  <a:pt x="132" y="337"/>
                </a:cubicBezTo>
                <a:cubicBezTo>
                  <a:pt x="0" y="288"/>
                  <a:pt x="30" y="97"/>
                  <a:pt x="168" y="49"/>
                </a:cubicBezTo>
                <a:close/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91240" y="2284560"/>
            <a:ext cx="2181240" cy="277560"/>
          </a:xfrm>
          <a:custGeom>
            <a:avLst/>
            <a:gdLst/>
            <a:ahLst/>
            <a:rect l="l" t="t" r="r" b="b"/>
            <a:pathLst>
              <a:path w="1110" h="391">
                <a:moveTo>
                  <a:pt x="168" y="49"/>
                </a:moveTo>
                <a:cubicBezTo>
                  <a:pt x="306" y="1"/>
                  <a:pt x="826" y="0"/>
                  <a:pt x="960" y="49"/>
                </a:cubicBezTo>
                <a:cubicBezTo>
                  <a:pt x="1094" y="98"/>
                  <a:pt x="1110" y="295"/>
                  <a:pt x="972" y="343"/>
                </a:cubicBezTo>
                <a:cubicBezTo>
                  <a:pt x="834" y="391"/>
                  <a:pt x="264" y="386"/>
                  <a:pt x="132" y="337"/>
                </a:cubicBezTo>
                <a:cubicBezTo>
                  <a:pt x="0" y="288"/>
                  <a:pt x="30" y="97"/>
                  <a:pt x="168" y="49"/>
                </a:cubicBezTo>
                <a:close/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onstruction and destruction rul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bject are constructed and destructed in the same manner as other variab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Global objects are initialized before the main program begins, and destructed after the main program retur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ocal objects are initialized before a procedure call, and destructed when a procedure retur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ynamically allocated objects are initialized when the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statement is called, and destructed when the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delet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statement is call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Relationships between class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asses represent concep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 list of bank employe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oncepts don’t usually exist in isol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re are more than one concept in a large program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re are relationships between various concep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is necessary to be able to represent the relationships between clas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lasses may be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eparated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from one anoth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lasses may be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eparated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from one another but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ly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on one another’s servic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 class may have another class as one of its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arts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</a:rPr>
              <a:t>has-a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 class may be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lated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har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parts and services of another class (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</a:rPr>
              <a:t>is-a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Inheritance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ne of the most useful relationships between classes is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hierarchical relationship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Hierarchical relationship means sharing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mmonalit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ember attribut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ember func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i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rive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rom another class when it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herit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parts of the other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perclass (parent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bclass (child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Hierarchical relationships and inheritance form the basis of object oriented programm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erived class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97000" y="1161720"/>
            <a:ext cx="373068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re is no hierarch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A flat structu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has a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lso an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annot be put on the list of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without type conver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Need to relate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 to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has whatever 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has, plus mo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6440" y="1314360"/>
            <a:ext cx="4016160" cy="25052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6440" y="4005360"/>
            <a:ext cx="4016160" cy="19764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manag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;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manager’s 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people 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erived class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97000" y="1161720"/>
            <a:ext cx="373068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e ca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riv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 from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 is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base cla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uper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 i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rive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rom 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ub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xtend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e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bclass has more than the super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6440" y="1314360"/>
            <a:ext cx="4016160" cy="25243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4033800"/>
            <a:ext cx="4016160" cy="18907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manager : public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people managed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 hierarchies 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5640" y="1162080"/>
            <a:ext cx="3902040" cy="25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derived class can itself be the base class of another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an be the base class of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directo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directo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nherits from both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manag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6440" y="1314360"/>
            <a:ext cx="3863880" cy="25243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departm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ala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nex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6440" y="4091040"/>
            <a:ext cx="3863880" cy="18050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manager : public employ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hort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leve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employee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people managed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4091040"/>
            <a:ext cx="3844800" cy="18050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director : public manag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number_of_staff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anager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*group;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// list of people managed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14300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6-06T22:38:18Z</dcterms:modified>
  <cp:revision>201</cp:revision>
  <dc:subject/>
  <dc:title>Lecture slides for 0657.208</dc:title>
</cp:coreProperties>
</file>