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8390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5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36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524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36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524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5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400">
            <a:off x="-360" y="5864400"/>
            <a:ext cx="542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a00"/>
                </a:solidFill>
                <a:latin typeface="Times New Roman"/>
              </a:rPr>
              <a:t>15-</a:t>
            </a:r>
            <a:fld id="{797D5C5B-C69E-4B6B-851E-861C7370472E}" type="slidenum">
              <a:rPr b="0" lang="en-GB" sz="1000" spc="-1" strike="noStrike">
                <a:solidFill>
                  <a:srgbClr val="003a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228600"/>
            <a:ext cx="0" cy="586728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915840"/>
            <a:ext cx="822960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725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2e2478"/>
                </a:solidFill>
                <a:latin typeface="Times New Roman"/>
              </a:rPr>
              <a:t>Programming</a:t>
            </a:r>
            <a:r>
              <a:rPr b="0" i="1" lang="en-US" sz="3600" spc="-1" strike="noStrike">
                <a:solidFill>
                  <a:srgbClr val="2e2478"/>
                </a:solidFill>
                <a:latin typeface="Times New Roman"/>
              </a:rPr>
              <a:t> with Data Structures</a:t>
            </a:r>
            <a:br>
              <a:rPr sz="3200"/>
            </a:b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0657.208A</a:t>
            </a:r>
            <a:endParaRPr b="0" i="1" lang="en-US" sz="20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2825280"/>
            <a:ext cx="7861320" cy="34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bstractio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20231400">
            <a:off x="5867640" y="304560"/>
            <a:ext cx="36147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200" spc="-1" strike="noStrike">
                <a:solidFill>
                  <a:srgbClr val="fc0128"/>
                </a:solidFill>
                <a:latin typeface="Comic Sans MS"/>
              </a:rPr>
              <a:t>C++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152280"/>
            <a:ext cx="2874960" cy="2581560"/>
          </a:xfrm>
          <a:custGeom>
            <a:avLst/>
            <a:gdLst/>
            <a:ahLst/>
            <a:rect l="l" t="t" r="r" b="b"/>
            <a:pathLst>
              <a:path w="1811" h="1626">
                <a:moveTo>
                  <a:pt x="1236" y="1464"/>
                </a:moveTo>
                <a:cubicBezTo>
                  <a:pt x="1223" y="1477"/>
                  <a:pt x="1214" y="1494"/>
                  <a:pt x="1200" y="1506"/>
                </a:cubicBezTo>
                <a:cubicBezTo>
                  <a:pt x="1184" y="1519"/>
                  <a:pt x="1163" y="1525"/>
                  <a:pt x="1146" y="1536"/>
                </a:cubicBezTo>
                <a:cubicBezTo>
                  <a:pt x="1045" y="1599"/>
                  <a:pt x="921" y="1611"/>
                  <a:pt x="804" y="1626"/>
                </a:cubicBezTo>
                <a:cubicBezTo>
                  <a:pt x="666" y="1620"/>
                  <a:pt x="517" y="1622"/>
                  <a:pt x="384" y="1578"/>
                </a:cubicBezTo>
                <a:cubicBezTo>
                  <a:pt x="352" y="1567"/>
                  <a:pt x="305" y="1561"/>
                  <a:pt x="276" y="1542"/>
                </a:cubicBezTo>
                <a:cubicBezTo>
                  <a:pt x="224" y="1507"/>
                  <a:pt x="162" y="1483"/>
                  <a:pt x="120" y="1434"/>
                </a:cubicBezTo>
                <a:cubicBezTo>
                  <a:pt x="102" y="1412"/>
                  <a:pt x="111" y="1415"/>
                  <a:pt x="96" y="1386"/>
                </a:cubicBezTo>
                <a:cubicBezTo>
                  <a:pt x="87" y="1369"/>
                  <a:pt x="66" y="1338"/>
                  <a:pt x="66" y="1338"/>
                </a:cubicBezTo>
                <a:cubicBezTo>
                  <a:pt x="60" y="1302"/>
                  <a:pt x="45" y="1276"/>
                  <a:pt x="36" y="1242"/>
                </a:cubicBezTo>
                <a:cubicBezTo>
                  <a:pt x="34" y="1232"/>
                  <a:pt x="33" y="1222"/>
                  <a:pt x="30" y="1212"/>
                </a:cubicBezTo>
                <a:cubicBezTo>
                  <a:pt x="27" y="1200"/>
                  <a:pt x="18" y="1176"/>
                  <a:pt x="18" y="1176"/>
                </a:cubicBezTo>
                <a:cubicBezTo>
                  <a:pt x="14" y="1148"/>
                  <a:pt x="10" y="1120"/>
                  <a:pt x="6" y="1092"/>
                </a:cubicBezTo>
                <a:cubicBezTo>
                  <a:pt x="4" y="1078"/>
                  <a:pt x="0" y="1050"/>
                  <a:pt x="0" y="1050"/>
                </a:cubicBezTo>
                <a:cubicBezTo>
                  <a:pt x="5" y="957"/>
                  <a:pt x="9" y="805"/>
                  <a:pt x="66" y="720"/>
                </a:cubicBezTo>
                <a:cubicBezTo>
                  <a:pt x="89" y="606"/>
                  <a:pt x="54" y="765"/>
                  <a:pt x="84" y="666"/>
                </a:cubicBezTo>
                <a:cubicBezTo>
                  <a:pt x="109" y="584"/>
                  <a:pt x="111" y="498"/>
                  <a:pt x="150" y="420"/>
                </a:cubicBezTo>
                <a:cubicBezTo>
                  <a:pt x="177" y="366"/>
                  <a:pt x="226" y="321"/>
                  <a:pt x="270" y="282"/>
                </a:cubicBezTo>
                <a:cubicBezTo>
                  <a:pt x="278" y="274"/>
                  <a:pt x="287" y="267"/>
                  <a:pt x="294" y="258"/>
                </a:cubicBezTo>
                <a:cubicBezTo>
                  <a:pt x="301" y="250"/>
                  <a:pt x="305" y="241"/>
                  <a:pt x="312" y="234"/>
                </a:cubicBezTo>
                <a:cubicBezTo>
                  <a:pt x="341" y="207"/>
                  <a:pt x="380" y="190"/>
                  <a:pt x="408" y="162"/>
                </a:cubicBezTo>
                <a:cubicBezTo>
                  <a:pt x="413" y="157"/>
                  <a:pt x="414" y="149"/>
                  <a:pt x="420" y="144"/>
                </a:cubicBezTo>
                <a:cubicBezTo>
                  <a:pt x="442" y="126"/>
                  <a:pt x="473" y="114"/>
                  <a:pt x="498" y="102"/>
                </a:cubicBezTo>
                <a:cubicBezTo>
                  <a:pt x="517" y="92"/>
                  <a:pt x="533" y="76"/>
                  <a:pt x="552" y="66"/>
                </a:cubicBezTo>
                <a:cubicBezTo>
                  <a:pt x="640" y="22"/>
                  <a:pt x="744" y="10"/>
                  <a:pt x="840" y="0"/>
                </a:cubicBezTo>
                <a:cubicBezTo>
                  <a:pt x="961" y="3"/>
                  <a:pt x="1071" y="1"/>
                  <a:pt x="1188" y="18"/>
                </a:cubicBezTo>
                <a:cubicBezTo>
                  <a:pt x="1272" y="46"/>
                  <a:pt x="1358" y="60"/>
                  <a:pt x="1440" y="96"/>
                </a:cubicBezTo>
                <a:cubicBezTo>
                  <a:pt x="1491" y="119"/>
                  <a:pt x="1538" y="141"/>
                  <a:pt x="1590" y="162"/>
                </a:cubicBezTo>
                <a:cubicBezTo>
                  <a:pt x="1599" y="166"/>
                  <a:pt x="1605" y="175"/>
                  <a:pt x="1614" y="180"/>
                </a:cubicBezTo>
                <a:cubicBezTo>
                  <a:pt x="1619" y="183"/>
                  <a:pt x="1626" y="184"/>
                  <a:pt x="1632" y="186"/>
                </a:cubicBezTo>
                <a:cubicBezTo>
                  <a:pt x="1658" y="212"/>
                  <a:pt x="1687" y="230"/>
                  <a:pt x="1704" y="264"/>
                </a:cubicBezTo>
                <a:cubicBezTo>
                  <a:pt x="1735" y="326"/>
                  <a:pt x="1757" y="394"/>
                  <a:pt x="1788" y="456"/>
                </a:cubicBezTo>
                <a:cubicBezTo>
                  <a:pt x="1806" y="545"/>
                  <a:pt x="1811" y="645"/>
                  <a:pt x="1782" y="732"/>
                </a:cubicBezTo>
                <a:cubicBezTo>
                  <a:pt x="1772" y="799"/>
                  <a:pt x="1749" y="860"/>
                  <a:pt x="1728" y="924"/>
                </a:cubicBezTo>
                <a:cubicBezTo>
                  <a:pt x="1720" y="947"/>
                  <a:pt x="1716" y="972"/>
                  <a:pt x="1710" y="996"/>
                </a:cubicBezTo>
                <a:cubicBezTo>
                  <a:pt x="1704" y="1018"/>
                  <a:pt x="1695" y="1030"/>
                  <a:pt x="1686" y="1050"/>
                </a:cubicBezTo>
                <a:cubicBezTo>
                  <a:pt x="1668" y="1092"/>
                  <a:pt x="1653" y="1135"/>
                  <a:pt x="1632" y="1176"/>
                </a:cubicBezTo>
                <a:cubicBezTo>
                  <a:pt x="1601" y="1238"/>
                  <a:pt x="1542" y="1284"/>
                  <a:pt x="1494" y="1332"/>
                </a:cubicBezTo>
                <a:cubicBezTo>
                  <a:pt x="1487" y="1339"/>
                  <a:pt x="1484" y="1349"/>
                  <a:pt x="1476" y="1356"/>
                </a:cubicBezTo>
                <a:cubicBezTo>
                  <a:pt x="1469" y="1362"/>
                  <a:pt x="1459" y="1363"/>
                  <a:pt x="1452" y="1368"/>
                </a:cubicBezTo>
                <a:cubicBezTo>
                  <a:pt x="1402" y="1403"/>
                  <a:pt x="1351" y="1437"/>
                  <a:pt x="1296" y="1464"/>
                </a:cubicBezTo>
                <a:cubicBezTo>
                  <a:pt x="1267" y="1479"/>
                  <a:pt x="1237" y="1490"/>
                  <a:pt x="1206" y="1500"/>
                </a:cubicBezTo>
                <a:cubicBezTo>
                  <a:pt x="1202" y="1501"/>
                  <a:pt x="1214" y="1500"/>
                  <a:pt x="1218" y="1500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Implementing abstract data type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o far we have learnt to implement our ADTs using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cedural programming techniqu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functional programming techniqu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Haskel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n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procedural programming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n ADT is implemented by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nstructing a data structur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using built-in data typ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writing a set of functions to process the data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n procedural programming, data is not always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hidde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or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protect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An example of ADT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2720" y="1247400"/>
            <a:ext cx="398772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nyone can access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*star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*en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ren’t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*star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*end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part of the list itself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What happens when we need two separate list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What happens when another program wants to use the lis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What happens when we need to change the implementation of lis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How easy is it to debug this program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1285560"/>
            <a:ext cx="3826080" cy="480060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txBody>
          <a:bodyPr lIns="54000" rIns="54000" tIns="54000" bIns="540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truct node 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har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name[40]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hone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node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*link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node *start, *end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add(char name[40], int phone){…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del(char name[40]){…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main () 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tart = end = new node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add(“Masood”, 4978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el(“Masood”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Large program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Real world problems are often very complex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omplex problems require complex solutions (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large program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single large program is much more difficult to develop than a large number of small program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t is impossible for one person to understand all the details of a large program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Large programs are developed by more than one programm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re is a need to somehow divide a large program between a group of programmers developing i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Large program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Large programs must be broken down into manageable componen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t should be possible to develop all the components of a large program separatel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t some stage during the development process all the components must be integrat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fter integration, the components of a large program need to be able to interact with one anoth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they all have a part to play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f they weren’t needed they wouldn’t be ther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Abstraction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 key to solving the problem of complexity is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abstrac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bstraction means the ability to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encapsulat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put related things togeth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solat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separate unrelated thing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bstraction is simply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hiding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th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unwanted details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rom other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bstraction is a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theoretical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oncep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How can we use abstraction in programmin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Abstraction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bstraction can be applied at three level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developmen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us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bstraction during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sign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mean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solating and encapsulating related things conceptually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e.g. for our problem we need two types of lists of items: short and lo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short list are faster to acces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linked lists are fast to access for small number of item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long lists are slower to acces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trees provide fast access, but have </a:t>
            </a:r>
            <a:r>
              <a:rPr b="0" lang="en-GB" sz="1600" spc="-1" strike="noStrike">
                <a:solidFill>
                  <a:srgbClr val="003300"/>
                </a:solidFill>
                <a:latin typeface="Times New Roman"/>
              </a:rPr>
              <a:t>organisational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overhead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00"/>
                </a:solidFill>
                <a:latin typeface="Times New Roman"/>
              </a:rPr>
              <a:t>need to have trees and linked list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Abstraction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bstraction during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velopment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mean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solating and encapsulating development of component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efining ways of interacting with each particular componen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eveloping each component separately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e.g. for our program we need to develop linked list and tree structur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what kind of items are going to be store in the linked list?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what operations are going to be supported by the linked list?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what kind of items are going to be store in the tree?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what operations are going to be supported by the tree?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00"/>
                </a:solidFill>
                <a:latin typeface="Times New Roman"/>
              </a:rPr>
              <a:t>develop a linked list structure based on the requirements defini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00"/>
                </a:solidFill>
                <a:latin typeface="Times New Roman"/>
              </a:rPr>
              <a:t>develop a tree structure based on the requirements defini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Abstraction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bstraction during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use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mean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the user of a component only needs to know: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what a component i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what it can be used fo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what operations it provid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the user of a component doesn’t need to know details of its implement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only need to learn about the things we need to us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e.g. parts our program need to use a linked lis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don’t need to develop a linked list data structur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can use an existing linked list data structure and rely on what it provid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the internal implementation of linked list can change without effecting the parts that use i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00"/>
                </a:solidFill>
                <a:latin typeface="Times New Roman"/>
              </a:rPr>
              <a:t>the linked list data structure can be used many times without being implemented each time it is needed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Data type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 use of built-in data types is an example of abstrac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we decide what we need in our program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what values are needed?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what is going to be done to those values?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we choose a suitable data typ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what does it provide?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what operations does it allow?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we don’t need to know how a data type is implemented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we only need to know about the types we are going to us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r example, if we need to work with integer number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we choose C++ 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data typ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we know what values 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data type can tak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we know what operation 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data type provid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Revisiting abstract data type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n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Abstract Data Type (ADT)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s a collection of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nd a set of allowed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operation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that are used to define and manipulate the dat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Like abstraction itself, ADT is a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theoretical concep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 concept of ADT is used to define new data types which can be used like built-in data typ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efine and implement on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use many tim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We know how to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fin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n AD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efine data set and allowed oper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How do w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mplemen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n AD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5T10:27:04Z</dcterms:created>
  <dc:creator>Masood Masoodian</dc:creator>
  <dc:description/>
  <dc:language>en-US</dc:language>
  <cp:lastModifiedBy>masoodian</cp:lastModifiedBy>
  <cp:lastPrinted>2000-01-17T10:22:14Z</cp:lastPrinted>
  <dcterms:modified xsi:type="dcterms:W3CDTF">2000-05-30T22:06:15Z</dcterms:modified>
  <cp:revision>189</cp:revision>
  <dc:subject/>
  <dc:title>Lecture slides for 0657.208</dc:title>
</cp:coreProperties>
</file>