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4400"/>
            <a:ext cx="542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16-</a:t>
            </a:r>
            <a:fld id="{3502FF68-9BD4-472D-8097-A4118010A6BB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2e2478"/>
                </a:solidFill>
                <a:latin typeface="Times New Roman"/>
              </a:rPr>
              <a:t>Programming</a:t>
            </a: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 Oriented Programm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n example of AD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82720" y="1247400"/>
            <a:ext cx="39877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yone can acces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sta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en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ren’t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sta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*en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part of the list itself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we need two separate list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another program wants to use the lis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happens when we need to change the implementation of lis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How easy is it to debug this program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1285560"/>
            <a:ext cx="3826080" cy="4800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txBody>
          <a:bodyPr lIns="54000" rIns="54000" tIns="54000" bIns="540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ame[40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hon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ink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node *start, *en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add(char name[40], int phone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char name[40]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art = end = new nod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dd(“Masood”, 4978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l(“Masood”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n example of AD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85560"/>
            <a:ext cx="3826080" cy="4800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txBody>
          <a:bodyPr lIns="54000" rIns="54000" tIns="54000" bIns="540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ame[40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hon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ink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node *start, *en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add(char name[40], int phone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char name[40]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art = end = new nod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dd(“Masood”, 4978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l(“Masood”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30240" y="1247400"/>
            <a:ext cx="394020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t would be better to have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is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data type which knows how to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reate itself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initialis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itself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keep its own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tar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-17136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list data type will hav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ype declar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ome procedur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571680" indent="-209880"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ome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initialisation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routin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Abstraction in C++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++ is an extension of C programming languag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 is procedura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++ is object oriented but it can also be used as procedural (like C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++ allows abstraction using a number of technique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rogram as a set of interacting fil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separating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compil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cedur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rogram as a set of interacting fun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separating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functiona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rogram as a set of interacting objec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separating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objec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Object oriented programming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 oriented programming extends the concepts of </a:t>
            </a:r>
            <a:r>
              <a:rPr b="0" lang="en-GB" sz="2000" spc="-1" strike="noStrike">
                <a:solidFill>
                  <a:srgbClr val="003300"/>
                </a:solidFill>
                <a:latin typeface="Times New Roman"/>
              </a:rPr>
              <a:t>modularis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information hid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 object oriented programming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program is viewed as a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et of objec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program works by objects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ending messages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(requests) to one anoth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job of the programmer is to develop a set of objec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objects can be developed separatel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 object oriented programming data is hidden and protec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ata and functions are hidden inside the objec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encapsul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re is no way of getting to data except via the allowed fun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Object oriented programming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s can be viewed as having two face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outside face (interface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side face (implementation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erfa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n object is viewed by its us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fines the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behaviour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of the objec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he user cannot see more than what the interface show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mplement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n object is viewed by its develop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efines the internal state of the object (its variables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xplains how the promised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behaviour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of the interface is implemented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s are created using predefined templates calle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Objects created using the same class (template) behave in the same mann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mechanism provided by C++ for defining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new data type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at can be used as conveniently a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built-in data typ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concret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epresent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f an idea or concep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example the built-in C++ type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floa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with its operations (+, -, *, /) is a representation of the mathematical concept of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al numb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Using classes we can create representations of other concep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example a new C++ type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list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which represents our concept of list of items along with its allowed oper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n extension of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allow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outine declaration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s well as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eld declaration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ass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81160"/>
            <a:ext cx="3606840" cy="4905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txBody>
          <a:bodyPr lIns="90000" rIns="90000" tIns="54000" bIns="540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alu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eft, *righ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 *roo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sert(int i, node *root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int i, node *root){…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root = NULL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sert(2345, root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8088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1181160"/>
            <a:ext cx="3930840" cy="49053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540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lass number_tre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truct nod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ode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left, *righ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 *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it_tree(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insert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del(int i)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void main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number_tree my_tre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it_tre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y_tree.insert(234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6-01T01:25:22Z</dcterms:modified>
  <cp:revision>192</cp:revision>
  <dc:subject/>
  <dc:title>Lecture slides for 0657.208</dc:title>
</cp:coreProperties>
</file>