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834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2e2478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786132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120" y="3839040"/>
            <a:ext cx="786132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2e2478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38361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7520" y="1371240"/>
            <a:ext cx="38361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120" y="3839040"/>
            <a:ext cx="38361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7520" y="3839040"/>
            <a:ext cx="38361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2e2478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25311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7360" y="1371240"/>
            <a:ext cx="25311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25240" y="1371240"/>
            <a:ext cx="25311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120" y="3839040"/>
            <a:ext cx="25311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7360" y="3839040"/>
            <a:ext cx="25311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25240" y="3839040"/>
            <a:ext cx="25311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2e2478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120" y="1371240"/>
            <a:ext cx="786132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2e2478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786132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2e2478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383616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7520" y="1371240"/>
            <a:ext cx="383616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2e2478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456840"/>
            <a:ext cx="78487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2e2478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38361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7520" y="1371240"/>
            <a:ext cx="383616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120" y="3839040"/>
            <a:ext cx="38361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2e2478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383616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7520" y="1371240"/>
            <a:ext cx="38361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7520" y="3839040"/>
            <a:ext cx="38361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2e2478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38361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520" y="1371240"/>
            <a:ext cx="38361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120" y="3839040"/>
            <a:ext cx="786132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2478"/>
                </a:solidFill>
                <a:latin typeface="Times New Roman"/>
              </a:rPr>
              <a:t>Click to edit the title text format</a:t>
            </a:r>
            <a:endParaRPr b="0" i="1" lang="en-US" sz="2800" spc="-1" strike="noStrike">
              <a:solidFill>
                <a:srgbClr val="2e2478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120" y="1371240"/>
            <a:ext cx="786132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343080" indent="-343080">
              <a:spcBef>
                <a:spcPts val="700"/>
              </a:spcBef>
              <a:buClr>
                <a:srgbClr val="fc0128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2" marL="343080" indent="-343080">
              <a:spcBef>
                <a:spcPts val="700"/>
              </a:spcBef>
              <a:buClr>
                <a:srgbClr val="fc0128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3" marL="343080" indent="-343080">
              <a:spcBef>
                <a:spcPts val="700"/>
              </a:spcBef>
              <a:buClr>
                <a:srgbClr val="fc0128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4" marL="343080" indent="-343080">
              <a:spcBef>
                <a:spcPts val="700"/>
              </a:spcBef>
              <a:buClr>
                <a:srgbClr val="fc0128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 rot="14400">
            <a:off x="-360" y="5866920"/>
            <a:ext cx="458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a00"/>
                </a:solidFill>
                <a:latin typeface="Times New Roman"/>
              </a:rPr>
              <a:t>2-</a:t>
            </a:r>
            <a:fld id="{16D8870C-0253-4420-B77A-E4F985390422}" type="slidenum">
              <a:rPr b="0" lang="en-GB" sz="1000" spc="-1" strike="noStrike">
                <a:solidFill>
                  <a:srgbClr val="003a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33520" y="228600"/>
            <a:ext cx="0" cy="5867280"/>
          </a:xfrm>
          <a:prstGeom prst="line">
            <a:avLst/>
          </a:prstGeom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04920" y="915840"/>
            <a:ext cx="822960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79725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2e2478"/>
                </a:solidFill>
                <a:latin typeface="Times New Roman"/>
              </a:rPr>
              <a:t>Programming with Data Structures</a:t>
            </a:r>
            <a:br>
              <a:rPr sz="3200"/>
            </a:br>
            <a:r>
              <a:rPr b="0" i="1" lang="en-US" sz="2000" spc="-1" strike="noStrike">
                <a:solidFill>
                  <a:srgbClr val="800000"/>
                </a:solidFill>
                <a:latin typeface="Times New Roman"/>
              </a:rPr>
              <a:t>0657.208A</a:t>
            </a:r>
            <a:endParaRPr b="0" i="1" lang="en-US" sz="2000" spc="-1" strike="noStrike">
              <a:solidFill>
                <a:srgbClr val="2e2478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9120" y="2825280"/>
            <a:ext cx="7861320" cy="349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Dynamic memory allocation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Pointers</a:t>
            </a: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20231400">
            <a:off x="5867640" y="304560"/>
            <a:ext cx="361476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200" spc="-1" strike="noStrike">
                <a:solidFill>
                  <a:srgbClr val="fc0128"/>
                </a:solidFill>
                <a:latin typeface="Comic Sans MS"/>
              </a:rPr>
              <a:t>C++</a:t>
            </a:r>
            <a:endParaRPr b="0" lang="en-US" sz="1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19920" y="152280"/>
            <a:ext cx="2874960" cy="2581560"/>
          </a:xfrm>
          <a:custGeom>
            <a:avLst/>
            <a:gdLst/>
            <a:ahLst/>
            <a:rect l="l" t="t" r="r" b="b"/>
            <a:pathLst>
              <a:path w="1811" h="1626">
                <a:moveTo>
                  <a:pt x="1236" y="1464"/>
                </a:moveTo>
                <a:cubicBezTo>
                  <a:pt x="1223" y="1477"/>
                  <a:pt x="1214" y="1494"/>
                  <a:pt x="1200" y="1506"/>
                </a:cubicBezTo>
                <a:cubicBezTo>
                  <a:pt x="1184" y="1519"/>
                  <a:pt x="1163" y="1525"/>
                  <a:pt x="1146" y="1536"/>
                </a:cubicBezTo>
                <a:cubicBezTo>
                  <a:pt x="1045" y="1599"/>
                  <a:pt x="921" y="1611"/>
                  <a:pt x="804" y="1626"/>
                </a:cubicBezTo>
                <a:cubicBezTo>
                  <a:pt x="666" y="1620"/>
                  <a:pt x="517" y="1622"/>
                  <a:pt x="384" y="1578"/>
                </a:cubicBezTo>
                <a:cubicBezTo>
                  <a:pt x="352" y="1567"/>
                  <a:pt x="305" y="1561"/>
                  <a:pt x="276" y="1542"/>
                </a:cubicBezTo>
                <a:cubicBezTo>
                  <a:pt x="224" y="1507"/>
                  <a:pt x="162" y="1483"/>
                  <a:pt x="120" y="1434"/>
                </a:cubicBezTo>
                <a:cubicBezTo>
                  <a:pt x="102" y="1412"/>
                  <a:pt x="111" y="1415"/>
                  <a:pt x="96" y="1386"/>
                </a:cubicBezTo>
                <a:cubicBezTo>
                  <a:pt x="87" y="1369"/>
                  <a:pt x="66" y="1338"/>
                  <a:pt x="66" y="1338"/>
                </a:cubicBezTo>
                <a:cubicBezTo>
                  <a:pt x="60" y="1302"/>
                  <a:pt x="45" y="1276"/>
                  <a:pt x="36" y="1242"/>
                </a:cubicBezTo>
                <a:cubicBezTo>
                  <a:pt x="34" y="1232"/>
                  <a:pt x="33" y="1222"/>
                  <a:pt x="30" y="1212"/>
                </a:cubicBezTo>
                <a:cubicBezTo>
                  <a:pt x="27" y="1200"/>
                  <a:pt x="18" y="1176"/>
                  <a:pt x="18" y="1176"/>
                </a:cubicBezTo>
                <a:cubicBezTo>
                  <a:pt x="14" y="1148"/>
                  <a:pt x="10" y="1120"/>
                  <a:pt x="6" y="1092"/>
                </a:cubicBezTo>
                <a:cubicBezTo>
                  <a:pt x="4" y="1078"/>
                  <a:pt x="0" y="1050"/>
                  <a:pt x="0" y="1050"/>
                </a:cubicBezTo>
                <a:cubicBezTo>
                  <a:pt x="5" y="957"/>
                  <a:pt x="9" y="805"/>
                  <a:pt x="66" y="720"/>
                </a:cubicBezTo>
                <a:cubicBezTo>
                  <a:pt x="89" y="606"/>
                  <a:pt x="54" y="765"/>
                  <a:pt x="84" y="666"/>
                </a:cubicBezTo>
                <a:cubicBezTo>
                  <a:pt x="109" y="584"/>
                  <a:pt x="111" y="498"/>
                  <a:pt x="150" y="420"/>
                </a:cubicBezTo>
                <a:cubicBezTo>
                  <a:pt x="177" y="366"/>
                  <a:pt x="226" y="321"/>
                  <a:pt x="270" y="282"/>
                </a:cubicBezTo>
                <a:cubicBezTo>
                  <a:pt x="278" y="274"/>
                  <a:pt x="287" y="267"/>
                  <a:pt x="294" y="258"/>
                </a:cubicBezTo>
                <a:cubicBezTo>
                  <a:pt x="301" y="250"/>
                  <a:pt x="305" y="241"/>
                  <a:pt x="312" y="234"/>
                </a:cubicBezTo>
                <a:cubicBezTo>
                  <a:pt x="341" y="207"/>
                  <a:pt x="380" y="190"/>
                  <a:pt x="408" y="162"/>
                </a:cubicBezTo>
                <a:cubicBezTo>
                  <a:pt x="413" y="157"/>
                  <a:pt x="414" y="149"/>
                  <a:pt x="420" y="144"/>
                </a:cubicBezTo>
                <a:cubicBezTo>
                  <a:pt x="442" y="126"/>
                  <a:pt x="473" y="114"/>
                  <a:pt x="498" y="102"/>
                </a:cubicBezTo>
                <a:cubicBezTo>
                  <a:pt x="517" y="92"/>
                  <a:pt x="533" y="76"/>
                  <a:pt x="552" y="66"/>
                </a:cubicBezTo>
                <a:cubicBezTo>
                  <a:pt x="640" y="22"/>
                  <a:pt x="744" y="10"/>
                  <a:pt x="840" y="0"/>
                </a:cubicBezTo>
                <a:cubicBezTo>
                  <a:pt x="961" y="3"/>
                  <a:pt x="1071" y="1"/>
                  <a:pt x="1188" y="18"/>
                </a:cubicBezTo>
                <a:cubicBezTo>
                  <a:pt x="1272" y="46"/>
                  <a:pt x="1358" y="60"/>
                  <a:pt x="1440" y="96"/>
                </a:cubicBezTo>
                <a:cubicBezTo>
                  <a:pt x="1491" y="119"/>
                  <a:pt x="1538" y="141"/>
                  <a:pt x="1590" y="162"/>
                </a:cubicBezTo>
                <a:cubicBezTo>
                  <a:pt x="1599" y="166"/>
                  <a:pt x="1605" y="175"/>
                  <a:pt x="1614" y="180"/>
                </a:cubicBezTo>
                <a:cubicBezTo>
                  <a:pt x="1619" y="183"/>
                  <a:pt x="1626" y="184"/>
                  <a:pt x="1632" y="186"/>
                </a:cubicBezTo>
                <a:cubicBezTo>
                  <a:pt x="1658" y="212"/>
                  <a:pt x="1687" y="230"/>
                  <a:pt x="1704" y="264"/>
                </a:cubicBezTo>
                <a:cubicBezTo>
                  <a:pt x="1735" y="326"/>
                  <a:pt x="1757" y="394"/>
                  <a:pt x="1788" y="456"/>
                </a:cubicBezTo>
                <a:cubicBezTo>
                  <a:pt x="1806" y="545"/>
                  <a:pt x="1811" y="645"/>
                  <a:pt x="1782" y="732"/>
                </a:cubicBezTo>
                <a:cubicBezTo>
                  <a:pt x="1772" y="799"/>
                  <a:pt x="1749" y="860"/>
                  <a:pt x="1728" y="924"/>
                </a:cubicBezTo>
                <a:cubicBezTo>
                  <a:pt x="1720" y="947"/>
                  <a:pt x="1716" y="972"/>
                  <a:pt x="1710" y="996"/>
                </a:cubicBezTo>
                <a:cubicBezTo>
                  <a:pt x="1704" y="1018"/>
                  <a:pt x="1695" y="1030"/>
                  <a:pt x="1686" y="1050"/>
                </a:cubicBezTo>
                <a:cubicBezTo>
                  <a:pt x="1668" y="1092"/>
                  <a:pt x="1653" y="1135"/>
                  <a:pt x="1632" y="1176"/>
                </a:cubicBezTo>
                <a:cubicBezTo>
                  <a:pt x="1601" y="1238"/>
                  <a:pt x="1542" y="1284"/>
                  <a:pt x="1494" y="1332"/>
                </a:cubicBezTo>
                <a:cubicBezTo>
                  <a:pt x="1487" y="1339"/>
                  <a:pt x="1484" y="1349"/>
                  <a:pt x="1476" y="1356"/>
                </a:cubicBezTo>
                <a:cubicBezTo>
                  <a:pt x="1469" y="1362"/>
                  <a:pt x="1459" y="1363"/>
                  <a:pt x="1452" y="1368"/>
                </a:cubicBezTo>
                <a:cubicBezTo>
                  <a:pt x="1402" y="1403"/>
                  <a:pt x="1351" y="1437"/>
                  <a:pt x="1296" y="1464"/>
                </a:cubicBezTo>
                <a:cubicBezTo>
                  <a:pt x="1267" y="1479"/>
                  <a:pt x="1237" y="1490"/>
                  <a:pt x="1206" y="1500"/>
                </a:cubicBezTo>
                <a:cubicBezTo>
                  <a:pt x="1202" y="1501"/>
                  <a:pt x="1214" y="1500"/>
                  <a:pt x="1218" y="1500"/>
                </a:cubicBezTo>
              </a:path>
            </a:pathLst>
          </a:custGeom>
          <a:noFill/>
          <a:ln w="7632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"/>
          <p:cNvGrpSpPr/>
          <p:nvPr/>
        </p:nvGrpSpPr>
        <p:grpSpPr>
          <a:xfrm>
            <a:off x="5619600" y="1308240"/>
            <a:ext cx="2743200" cy="4787640"/>
            <a:chOff x="5619600" y="1308240"/>
            <a:chExt cx="2743200" cy="4787640"/>
          </a:xfrm>
        </p:grpSpPr>
        <p:sp>
          <p:nvSpPr>
            <p:cNvPr id="146" name=""/>
            <p:cNvSpPr/>
            <p:nvPr/>
          </p:nvSpPr>
          <p:spPr>
            <a:xfrm>
              <a:off x="5626080" y="1308240"/>
              <a:ext cx="2730600" cy="4787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619600" y="4349880"/>
              <a:ext cx="2743200" cy="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688000" y="5207040"/>
              <a:ext cx="2617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00"/>
                  </a:solidFill>
                  <a:latin typeface="Times New Roman"/>
                </a:rPr>
                <a:t>Program instructions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619600" y="5035680"/>
              <a:ext cx="2743200" cy="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681160" y="4487760"/>
              <a:ext cx="22028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00"/>
                  </a:solidFill>
                  <a:latin typeface="Times New Roman"/>
                </a:rPr>
                <a:t>Library instruc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619600" y="3587760"/>
              <a:ext cx="2743200" cy="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683680" y="3763800"/>
              <a:ext cx="18615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00"/>
                  </a:solidFill>
                  <a:latin typeface="Times New Roman"/>
                </a:rPr>
                <a:t>Global variabl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686560" y="3011400"/>
              <a:ext cx="750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00"/>
                  </a:solidFill>
                  <a:latin typeface="Times New Roman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685480" y="1876320"/>
              <a:ext cx="14086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00"/>
                  </a:solidFill>
                  <a:latin typeface="Times New Roman"/>
                </a:rPr>
                <a:t>Rest (Heap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619600" y="2825640"/>
              <a:ext cx="2743200" cy="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609480" y="1190520"/>
            <a:ext cx="3854520" cy="49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8600" indent="-228600">
              <a:spcBef>
                <a:spcPts val="499"/>
              </a:spcBef>
              <a:buClr>
                <a:srgbClr val="fc012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Times New Roman"/>
              </a:rPr>
              <a:t>Static memory allocation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 has the following limitation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a00"/>
                </a:solidFill>
                <a:latin typeface="Times New Roman"/>
              </a:rPr>
              <a:t>global variables have static 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a00"/>
                </a:solidFill>
                <a:latin typeface="Times New Roman"/>
              </a:rPr>
              <a:t>the size of global variables may be too big, or too sm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a00"/>
                </a:solidFill>
                <a:latin typeface="Times New Roman"/>
              </a:rPr>
              <a:t>local variables only exist during the activation of proced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a00"/>
                </a:solidFill>
                <a:latin typeface="Times New Roman"/>
              </a:rPr>
              <a:t>it is not suitable for programs with variable am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ount of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2478"/>
                </a:solidFill>
                <a:latin typeface="Times New Roman"/>
              </a:rPr>
              <a:t>Static memory allocation</a:t>
            </a:r>
            <a:endParaRPr b="0" i="1" lang="en-US" sz="2800" spc="-1" strike="noStrike">
              <a:solidFill>
                <a:srgbClr val="2e2478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5667480" y="1349280"/>
            <a:ext cx="2625480" cy="1432080"/>
            <a:chOff x="5667480" y="1349280"/>
            <a:chExt cx="2625480" cy="1432080"/>
          </a:xfrm>
        </p:grpSpPr>
        <p:sp>
          <p:nvSpPr>
            <p:cNvPr id="159" name=""/>
            <p:cNvSpPr/>
            <p:nvPr/>
          </p:nvSpPr>
          <p:spPr>
            <a:xfrm>
              <a:off x="5667480" y="1349280"/>
              <a:ext cx="2625480" cy="1432080"/>
            </a:xfrm>
            <a:prstGeom prst="rect">
              <a:avLst/>
            </a:prstGeom>
            <a:solidFill>
              <a:srgbClr val="8caeec"/>
            </a:solidFill>
            <a:ln w="28440">
              <a:solidFill>
                <a:srgbClr val="8cae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676840" y="1866960"/>
              <a:ext cx="1857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00"/>
                  </a:solidFill>
                  <a:latin typeface="Times New Roman"/>
                </a:rPr>
                <a:t>Hea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 rot="895800">
            <a:off x="4516200" y="2088360"/>
            <a:ext cx="3505320" cy="1556280"/>
          </a:xfrm>
          <a:prstGeom prst="rect">
            <a:avLst/>
          </a:prstGeom>
          <a:noFill/>
          <a:ln w="572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0128"/>
                </a:solidFill>
                <a:latin typeface="Impact"/>
              </a:rPr>
              <a:t>Need dynamic memory allocation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609480" y="1190520"/>
            <a:ext cx="3854520" cy="49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8600" indent="-228600">
              <a:spcBef>
                <a:spcPts val="499"/>
              </a:spcBef>
              <a:buClr>
                <a:srgbClr val="fc012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Times New Roman"/>
              </a:rPr>
              <a:t>Dynamic memory allocation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 allows the use of heap memory 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99"/>
              </a:spcBef>
              <a:buClr>
                <a:srgbClr val="fc012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99"/>
              </a:spcBef>
              <a:buClr>
                <a:srgbClr val="fc012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To use the memory the program needs to be able t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Times New Roman"/>
              </a:rPr>
              <a:t>allocate</a:t>
            </a:r>
            <a:r>
              <a:rPr b="0" lang="en-US" sz="2000" spc="-1" strike="noStrike">
                <a:solidFill>
                  <a:srgbClr val="003a00"/>
                </a:solidFill>
                <a:latin typeface="Times New Roman"/>
              </a:rPr>
              <a:t> memory 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Times New Roman"/>
              </a:rPr>
              <a:t>deallocate</a:t>
            </a:r>
            <a:r>
              <a:rPr b="0" lang="en-US" sz="2000" spc="-1" strike="noStrike">
                <a:solidFill>
                  <a:srgbClr val="003a00"/>
                </a:solidFill>
                <a:latin typeface="Times New Roman"/>
              </a:rPr>
              <a:t> memory 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Times New Roman"/>
              </a:rPr>
              <a:t>remember</a:t>
            </a:r>
            <a:r>
              <a:rPr b="0" lang="en-US" sz="2000" spc="-1" strike="noStrike">
                <a:solidFill>
                  <a:srgbClr val="003a00"/>
                </a:solidFill>
                <a:latin typeface="Times New Roman"/>
              </a:rPr>
              <a:t> where the data is sto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Times New Roman"/>
              </a:rPr>
              <a:t>access</a:t>
            </a:r>
            <a:r>
              <a:rPr b="0" lang="en-US" sz="2000" spc="-1" strike="noStrike">
                <a:solidFill>
                  <a:srgbClr val="003a00"/>
                </a:solidFill>
                <a:latin typeface="Times New Roman"/>
              </a:rPr>
              <a:t> the data when need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2478"/>
                </a:solidFill>
                <a:latin typeface="Times New Roman"/>
              </a:rPr>
              <a:t>Dynamic memory allocation</a:t>
            </a:r>
            <a:endParaRPr b="0" i="1" lang="en-US" sz="2800" spc="-1" strike="noStrike">
              <a:solidFill>
                <a:srgbClr val="2e2478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5619600" y="1308240"/>
            <a:ext cx="2743200" cy="4787640"/>
            <a:chOff x="5619600" y="1308240"/>
            <a:chExt cx="2743200" cy="4787640"/>
          </a:xfrm>
        </p:grpSpPr>
        <p:grpSp>
          <p:nvGrpSpPr>
            <p:cNvPr id="165" name=""/>
            <p:cNvGrpSpPr/>
            <p:nvPr/>
          </p:nvGrpSpPr>
          <p:grpSpPr>
            <a:xfrm>
              <a:off x="5619600" y="1308240"/>
              <a:ext cx="2743200" cy="4787640"/>
              <a:chOff x="5619600" y="1308240"/>
              <a:chExt cx="2743200" cy="4787640"/>
            </a:xfrm>
          </p:grpSpPr>
          <p:sp>
            <p:nvSpPr>
              <p:cNvPr id="166" name=""/>
              <p:cNvSpPr/>
              <p:nvPr/>
            </p:nvSpPr>
            <p:spPr>
              <a:xfrm>
                <a:off x="5626080" y="1308240"/>
                <a:ext cx="2730600" cy="47876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5619600" y="4349880"/>
                <a:ext cx="2743200" cy="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5688000" y="5207040"/>
                <a:ext cx="261792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3300"/>
                    </a:solidFill>
                    <a:latin typeface="Times New Roman"/>
                  </a:rPr>
                  <a:t>Program instructions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619600" y="5035680"/>
                <a:ext cx="2743200" cy="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5681160" y="4487760"/>
                <a:ext cx="220284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3300"/>
                    </a:solidFill>
                    <a:latin typeface="Times New Roman"/>
                  </a:rPr>
                  <a:t>Library instruction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619600" y="3587760"/>
                <a:ext cx="2743200" cy="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5683680" y="3763800"/>
                <a:ext cx="18615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3300"/>
                    </a:solidFill>
                    <a:latin typeface="Times New Roman"/>
                  </a:rPr>
                  <a:t>Global variable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5686560" y="3011400"/>
                <a:ext cx="75060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3300"/>
                    </a:solidFill>
                    <a:latin typeface="Times New Roman"/>
                  </a:rPr>
                  <a:t>Stack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5685480" y="1876320"/>
                <a:ext cx="14086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3300"/>
                    </a:solidFill>
                    <a:latin typeface="Times New Roman"/>
                  </a:rPr>
                  <a:t>Rest (Heap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5619600" y="2825640"/>
                <a:ext cx="2743200" cy="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5667480" y="1349280"/>
              <a:ext cx="2625480" cy="1432080"/>
              <a:chOff x="5667480" y="1349280"/>
              <a:chExt cx="2625480" cy="1432080"/>
            </a:xfrm>
          </p:grpSpPr>
          <p:sp>
            <p:nvSpPr>
              <p:cNvPr id="177" name=""/>
              <p:cNvSpPr/>
              <p:nvPr/>
            </p:nvSpPr>
            <p:spPr>
              <a:xfrm>
                <a:off x="5667480" y="1349280"/>
                <a:ext cx="2625480" cy="1432080"/>
              </a:xfrm>
              <a:prstGeom prst="rect">
                <a:avLst/>
              </a:prstGeom>
              <a:solidFill>
                <a:srgbClr val="8caeec"/>
              </a:solidFill>
              <a:ln w="28440">
                <a:solidFill>
                  <a:srgbClr val="8caee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5676840" y="1866960"/>
                <a:ext cx="1857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3300"/>
                    </a:solidFill>
                    <a:latin typeface="Times New Roman"/>
                  </a:rPr>
                  <a:t>Heap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9" name=""/>
          <p:cNvSpPr/>
          <p:nvPr/>
        </p:nvSpPr>
        <p:spPr>
          <a:xfrm>
            <a:off x="7182000" y="1657440"/>
            <a:ext cx="676080" cy="199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439040" y="2162160"/>
            <a:ext cx="676440" cy="2001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943600" y="1504800"/>
            <a:ext cx="676440" cy="2001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610320" y="2467080"/>
            <a:ext cx="676440" cy="199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916240" y="1471680"/>
            <a:ext cx="69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bbbb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228800" y="162396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5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503480" y="212868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aa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623640" y="2433600"/>
            <a:ext cx="65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234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609480" y="1181160"/>
            <a:ext cx="3854520" cy="491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8600" indent="-228600">
              <a:spcBef>
                <a:spcPts val="499"/>
              </a:spcBef>
              <a:buClr>
                <a:srgbClr val="fc012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Times New Roman"/>
              </a:rPr>
              <a:t>Pointers 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are used for dynamic memory allo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99"/>
              </a:spcBef>
              <a:buClr>
                <a:srgbClr val="fc012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99"/>
              </a:spcBef>
              <a:buClr>
                <a:srgbClr val="fc012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A pointer </a:t>
            </a:r>
            <a:r>
              <a:rPr b="1" lang="en-US" sz="2000" spc="-1" strike="noStrike">
                <a:solidFill>
                  <a:srgbClr val="8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 is a </a:t>
            </a:r>
            <a:r>
              <a:rPr b="0" lang="en-US" sz="2000" spc="-1" strike="noStrike">
                <a:solidFill>
                  <a:srgbClr val="800000"/>
                </a:solidFill>
                <a:latin typeface="Times New Roman"/>
              </a:rPr>
              <a:t>variable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 that holds the </a:t>
            </a:r>
            <a:r>
              <a:rPr b="0" lang="en-US" sz="2000" spc="-1" strike="noStrike">
                <a:solidFill>
                  <a:srgbClr val="800000"/>
                </a:solidFill>
                <a:latin typeface="Times New Roman"/>
              </a:rPr>
              <a:t>address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 of a </a:t>
            </a:r>
            <a:r>
              <a:rPr b="0" lang="en-US" sz="2000" spc="-1" strike="noStrike">
                <a:solidFill>
                  <a:srgbClr val="800000"/>
                </a:solidFill>
                <a:latin typeface="Times New Roman"/>
              </a:rPr>
              <a:t>data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 item stored in the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99"/>
              </a:spcBef>
              <a:buClr>
                <a:srgbClr val="fc012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99"/>
              </a:spcBef>
              <a:buClr>
                <a:srgbClr val="fc012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It is possible to declare a pointer which points to any type of dat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void *p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99"/>
              </a:spcBef>
              <a:buClr>
                <a:srgbClr val="fc012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It is usual to declare a pointer to a particular type of dat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int *p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800000"/>
                </a:solidFill>
                <a:latin typeface="Times New Roman"/>
              </a:rPr>
              <a:t>pointing to an 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2478"/>
                </a:solidFill>
                <a:latin typeface="Times New Roman"/>
              </a:rPr>
              <a:t>Pointers</a:t>
            </a:r>
            <a:endParaRPr b="0" i="1" lang="en-US" sz="2800" spc="-1" strike="noStrike">
              <a:solidFill>
                <a:srgbClr val="2e2478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5619600" y="1308240"/>
            <a:ext cx="2743200" cy="4787640"/>
            <a:chOff x="5619600" y="1308240"/>
            <a:chExt cx="2743200" cy="4787640"/>
          </a:xfrm>
        </p:grpSpPr>
        <p:grpSp>
          <p:nvGrpSpPr>
            <p:cNvPr id="190" name=""/>
            <p:cNvGrpSpPr/>
            <p:nvPr/>
          </p:nvGrpSpPr>
          <p:grpSpPr>
            <a:xfrm>
              <a:off x="5619600" y="1308240"/>
              <a:ext cx="2743200" cy="4787640"/>
              <a:chOff x="5619600" y="1308240"/>
              <a:chExt cx="2743200" cy="4787640"/>
            </a:xfrm>
          </p:grpSpPr>
          <p:sp>
            <p:nvSpPr>
              <p:cNvPr id="191" name=""/>
              <p:cNvSpPr/>
              <p:nvPr/>
            </p:nvSpPr>
            <p:spPr>
              <a:xfrm>
                <a:off x="5626080" y="1308240"/>
                <a:ext cx="2730600" cy="47876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5619600" y="4349880"/>
                <a:ext cx="2743200" cy="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688000" y="5207040"/>
                <a:ext cx="261792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3300"/>
                    </a:solidFill>
                    <a:latin typeface="Times New Roman"/>
                  </a:rPr>
                  <a:t>Program instructions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5619600" y="5035680"/>
                <a:ext cx="2743200" cy="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5681160" y="4487760"/>
                <a:ext cx="220284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3300"/>
                    </a:solidFill>
                    <a:latin typeface="Times New Roman"/>
                  </a:rPr>
                  <a:t>Library instruction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5619600" y="3587760"/>
                <a:ext cx="2743200" cy="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5683680" y="3763800"/>
                <a:ext cx="18615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3300"/>
                    </a:solidFill>
                    <a:latin typeface="Times New Roman"/>
                  </a:rPr>
                  <a:t>Global variable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5686560" y="3011400"/>
                <a:ext cx="75060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3300"/>
                    </a:solidFill>
                    <a:latin typeface="Times New Roman"/>
                  </a:rPr>
                  <a:t>Stack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5685480" y="1876320"/>
                <a:ext cx="14086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3300"/>
                    </a:solidFill>
                    <a:latin typeface="Times New Roman"/>
                  </a:rPr>
                  <a:t>Rest (Heap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619600" y="2825640"/>
                <a:ext cx="2743200" cy="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" name=""/>
            <p:cNvGrpSpPr/>
            <p:nvPr/>
          </p:nvGrpSpPr>
          <p:grpSpPr>
            <a:xfrm>
              <a:off x="5667480" y="1349280"/>
              <a:ext cx="2625480" cy="1432080"/>
              <a:chOff x="5667480" y="1349280"/>
              <a:chExt cx="2625480" cy="1432080"/>
            </a:xfrm>
          </p:grpSpPr>
          <p:sp>
            <p:nvSpPr>
              <p:cNvPr id="202" name=""/>
              <p:cNvSpPr/>
              <p:nvPr/>
            </p:nvSpPr>
            <p:spPr>
              <a:xfrm>
                <a:off x="5667480" y="1349280"/>
                <a:ext cx="2625480" cy="1432080"/>
              </a:xfrm>
              <a:prstGeom prst="rect">
                <a:avLst/>
              </a:prstGeom>
              <a:solidFill>
                <a:srgbClr val="8caeec"/>
              </a:solidFill>
              <a:ln w="28440">
                <a:solidFill>
                  <a:srgbClr val="8caee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5676840" y="1866960"/>
                <a:ext cx="1857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3300"/>
                    </a:solidFill>
                    <a:latin typeface="Times New Roman"/>
                  </a:rPr>
                  <a:t>Heap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4" name=""/>
          <p:cNvSpPr/>
          <p:nvPr/>
        </p:nvSpPr>
        <p:spPr>
          <a:xfrm>
            <a:off x="7182000" y="1657440"/>
            <a:ext cx="676080" cy="199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496280" y="2162160"/>
            <a:ext cx="676080" cy="2001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943600" y="1504800"/>
            <a:ext cx="676440" cy="2001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610320" y="2467080"/>
            <a:ext cx="676440" cy="199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916240" y="1471680"/>
            <a:ext cx="69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bbbb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228800" y="162396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5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560720" y="212868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aa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623640" y="2433600"/>
            <a:ext cx="65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234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548480" y="34765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620120" y="3819600"/>
            <a:ext cx="676080" cy="199800"/>
          </a:xfrm>
          <a:prstGeom prst="rect">
            <a:avLst/>
          </a:prstGeom>
          <a:solidFill>
            <a:srgbClr val="8caeec"/>
          </a:solidFill>
          <a:ln w="12600">
            <a:solidFill>
              <a:srgbClr val="8cae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7905600" y="2381400"/>
            <a:ext cx="243000" cy="1551960"/>
            <a:chOff x="7905600" y="2381400"/>
            <a:chExt cx="243000" cy="1551960"/>
          </a:xfrm>
        </p:grpSpPr>
        <p:sp>
          <p:nvSpPr>
            <p:cNvPr id="215" name=""/>
            <p:cNvSpPr/>
            <p:nvPr/>
          </p:nvSpPr>
          <p:spPr>
            <a:xfrm>
              <a:off x="7905600" y="2428200"/>
              <a:ext cx="243000" cy="1505160"/>
            </a:xfrm>
            <a:custGeom>
              <a:avLst/>
              <a:gdLst/>
              <a:ahLst/>
              <a:rect l="l" t="t" r="r" b="b"/>
              <a:pathLst>
                <a:path w="177" h="1026">
                  <a:moveTo>
                    <a:pt x="0" y="1026"/>
                  </a:moveTo>
                  <a:cubicBezTo>
                    <a:pt x="22" y="1011"/>
                    <a:pt x="35" y="991"/>
                    <a:pt x="54" y="972"/>
                  </a:cubicBezTo>
                  <a:cubicBezTo>
                    <a:pt x="71" y="922"/>
                    <a:pt x="43" y="1001"/>
                    <a:pt x="84" y="918"/>
                  </a:cubicBezTo>
                  <a:cubicBezTo>
                    <a:pt x="95" y="896"/>
                    <a:pt x="99" y="874"/>
                    <a:pt x="114" y="852"/>
                  </a:cubicBezTo>
                  <a:cubicBezTo>
                    <a:pt x="120" y="828"/>
                    <a:pt x="131" y="809"/>
                    <a:pt x="138" y="786"/>
                  </a:cubicBezTo>
                  <a:cubicBezTo>
                    <a:pt x="146" y="756"/>
                    <a:pt x="149" y="726"/>
                    <a:pt x="156" y="696"/>
                  </a:cubicBezTo>
                  <a:cubicBezTo>
                    <a:pt x="168" y="542"/>
                    <a:pt x="177" y="345"/>
                    <a:pt x="126" y="192"/>
                  </a:cubicBezTo>
                  <a:cubicBezTo>
                    <a:pt x="118" y="132"/>
                    <a:pt x="117" y="55"/>
                    <a:pt x="90" y="0"/>
                  </a:cubicBezTo>
                </a:path>
              </a:pathLst>
            </a:custGeom>
            <a:noFill/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8012520" y="2381400"/>
              <a:ext cx="32760" cy="149760"/>
            </a:xfrm>
            <a:prstGeom prst="line">
              <a:avLst/>
            </a:prstGeom>
            <a:ln w="28440">
              <a:solidFill>
                <a:srgbClr val="fc012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strips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609480" y="1181160"/>
            <a:ext cx="3854520" cy="491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8600" indent="-228600">
              <a:spcBef>
                <a:spcPts val="499"/>
              </a:spcBef>
              <a:buClr>
                <a:srgbClr val="fc012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Declaration of a pointer </a:t>
            </a:r>
            <a:r>
              <a:rPr b="1" lang="en-US" sz="2000" spc="-1" strike="noStrike">
                <a:solidFill>
                  <a:srgbClr val="8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 doesn’t automatically allocate memory space in the he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99"/>
              </a:spcBef>
              <a:buClr>
                <a:srgbClr val="fc012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99"/>
              </a:spcBef>
              <a:buClr>
                <a:srgbClr val="fc012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Need to use </a:t>
            </a:r>
            <a:r>
              <a:rPr b="0" lang="en-US" sz="2000" spc="-1" strike="noStrike">
                <a:solidFill>
                  <a:srgbClr val="800000"/>
                </a:solidFill>
                <a:latin typeface="Times New Roman"/>
              </a:rPr>
              <a:t>new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 to allocate memory 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int *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 = new in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99"/>
              </a:spcBef>
              <a:buClr>
                <a:srgbClr val="fc012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Need to use </a:t>
            </a:r>
            <a:r>
              <a:rPr b="0" lang="en-US" sz="2000" spc="-1" strike="noStrike">
                <a:solidFill>
                  <a:srgbClr val="800000"/>
                </a:solidFill>
                <a:latin typeface="Times New Roman"/>
              </a:rPr>
              <a:t>delete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 to deallocate memory 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elete 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99"/>
              </a:spcBef>
              <a:buClr>
                <a:srgbClr val="fc012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A </a:t>
            </a:r>
            <a:r>
              <a:rPr b="0" lang="en-US" sz="2000" spc="-1" strike="noStrike">
                <a:solidFill>
                  <a:srgbClr val="800000"/>
                </a:solidFill>
                <a:latin typeface="Times New Roman"/>
              </a:rPr>
              <a:t>null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 pointer has no add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2478"/>
                </a:solidFill>
                <a:latin typeface="Times New Roman"/>
              </a:rPr>
              <a:t>Memory allocation</a:t>
            </a:r>
            <a:endParaRPr b="0" i="1" lang="en-US" sz="2800" spc="-1" strike="noStrike">
              <a:solidFill>
                <a:srgbClr val="2e2478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5619600" y="1308240"/>
            <a:ext cx="2743200" cy="4787640"/>
            <a:chOff x="5619600" y="1308240"/>
            <a:chExt cx="2743200" cy="4787640"/>
          </a:xfrm>
        </p:grpSpPr>
        <p:sp>
          <p:nvSpPr>
            <p:cNvPr id="220" name=""/>
            <p:cNvSpPr/>
            <p:nvPr/>
          </p:nvSpPr>
          <p:spPr>
            <a:xfrm>
              <a:off x="5626080" y="1308240"/>
              <a:ext cx="2730600" cy="4787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683680" y="5611680"/>
              <a:ext cx="18615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00"/>
                  </a:solidFill>
                  <a:latin typeface="Times New Roman"/>
                </a:rPr>
                <a:t>Global variabl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19600" y="3759120"/>
              <a:ext cx="2743200" cy="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667480" y="1349280"/>
              <a:ext cx="2635200" cy="2365560"/>
            </a:xfrm>
            <a:prstGeom prst="rect">
              <a:avLst/>
            </a:prstGeom>
            <a:solidFill>
              <a:srgbClr val="8caeec"/>
            </a:solidFill>
            <a:ln w="28440">
              <a:solidFill>
                <a:srgbClr val="8cae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676840" y="1371600"/>
              <a:ext cx="1857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00"/>
                  </a:solidFill>
                  <a:latin typeface="Times New Roman"/>
                </a:rPr>
                <a:t>Hea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7839000" y="2381400"/>
            <a:ext cx="109440" cy="1999800"/>
            <a:chOff x="7839000" y="2381400"/>
            <a:chExt cx="109440" cy="1999800"/>
          </a:xfrm>
        </p:grpSpPr>
        <p:sp>
          <p:nvSpPr>
            <p:cNvPr id="226" name=""/>
            <p:cNvSpPr/>
            <p:nvPr/>
          </p:nvSpPr>
          <p:spPr>
            <a:xfrm>
              <a:off x="7839000" y="2441880"/>
              <a:ext cx="109440" cy="1939320"/>
            </a:xfrm>
            <a:custGeom>
              <a:avLst/>
              <a:gdLst/>
              <a:ahLst/>
              <a:rect l="l" t="t" r="r" b="b"/>
              <a:pathLst>
                <a:path w="177" h="1026">
                  <a:moveTo>
                    <a:pt x="0" y="1026"/>
                  </a:moveTo>
                  <a:cubicBezTo>
                    <a:pt x="22" y="1011"/>
                    <a:pt x="35" y="991"/>
                    <a:pt x="54" y="972"/>
                  </a:cubicBezTo>
                  <a:cubicBezTo>
                    <a:pt x="71" y="922"/>
                    <a:pt x="43" y="1001"/>
                    <a:pt x="84" y="918"/>
                  </a:cubicBezTo>
                  <a:cubicBezTo>
                    <a:pt x="95" y="896"/>
                    <a:pt x="99" y="874"/>
                    <a:pt x="114" y="852"/>
                  </a:cubicBezTo>
                  <a:cubicBezTo>
                    <a:pt x="120" y="828"/>
                    <a:pt x="131" y="809"/>
                    <a:pt x="138" y="786"/>
                  </a:cubicBezTo>
                  <a:cubicBezTo>
                    <a:pt x="146" y="756"/>
                    <a:pt x="149" y="726"/>
                    <a:pt x="156" y="696"/>
                  </a:cubicBezTo>
                  <a:cubicBezTo>
                    <a:pt x="168" y="542"/>
                    <a:pt x="177" y="345"/>
                    <a:pt x="126" y="192"/>
                  </a:cubicBezTo>
                  <a:cubicBezTo>
                    <a:pt x="118" y="132"/>
                    <a:pt x="117" y="55"/>
                    <a:pt x="90" y="0"/>
                  </a:cubicBezTo>
                </a:path>
              </a:pathLst>
            </a:custGeom>
            <a:noFill/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887240" y="2381400"/>
              <a:ext cx="14760" cy="192960"/>
            </a:xfrm>
            <a:prstGeom prst="line">
              <a:avLst/>
            </a:prstGeom>
            <a:ln w="28440">
              <a:solidFill>
                <a:srgbClr val="fc012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7496280" y="2162160"/>
            <a:ext cx="676080" cy="2001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2676600" y="3381480"/>
            <a:ext cx="752400" cy="0"/>
          </a:xfrm>
          <a:prstGeom prst="line">
            <a:avLst/>
          </a:prstGeom>
          <a:ln w="284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2676600" y="3714840"/>
            <a:ext cx="752400" cy="0"/>
          </a:xfrm>
          <a:prstGeom prst="line">
            <a:avLst/>
          </a:prstGeom>
          <a:ln w="284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2676600" y="5105520"/>
            <a:ext cx="752400" cy="0"/>
          </a:xfrm>
          <a:prstGeom prst="line">
            <a:avLst/>
          </a:prstGeom>
          <a:ln w="284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7262640" y="4248000"/>
            <a:ext cx="928800" cy="368280"/>
            <a:chOff x="7262640" y="4248000"/>
            <a:chExt cx="928800" cy="368280"/>
          </a:xfrm>
        </p:grpSpPr>
        <p:sp>
          <p:nvSpPr>
            <p:cNvPr id="233" name=""/>
            <p:cNvSpPr/>
            <p:nvPr/>
          </p:nvSpPr>
          <p:spPr>
            <a:xfrm>
              <a:off x="7262640" y="42480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515360" y="4371840"/>
              <a:ext cx="676080" cy="200160"/>
            </a:xfrm>
            <a:prstGeom prst="rect">
              <a:avLst/>
            </a:prstGeom>
            <a:solidFill>
              <a:srgbClr val="8caeec"/>
            </a:solidFill>
            <a:ln w="12600">
              <a:solidFill>
                <a:srgbClr val="8cae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5" name=""/>
          <p:cNvSpPr/>
          <p:nvPr/>
        </p:nvSpPr>
        <p:spPr>
          <a:xfrm>
            <a:off x="7381800" y="1981080"/>
            <a:ext cx="847800" cy="409680"/>
          </a:xfrm>
          <a:prstGeom prst="rect">
            <a:avLst/>
          </a:prstGeom>
          <a:solidFill>
            <a:srgbClr val="8caeec"/>
          </a:solidFill>
          <a:ln w="12600">
            <a:solidFill>
              <a:srgbClr val="8cae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609480" y="1181160"/>
            <a:ext cx="3854520" cy="491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8600" indent="-228600">
              <a:spcBef>
                <a:spcPts val="499"/>
              </a:spcBef>
              <a:buClr>
                <a:srgbClr val="fc012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Can access the content of the location pointed to by </a:t>
            </a:r>
            <a:r>
              <a:rPr b="1" lang="en-US" sz="2000" spc="-1" strike="noStrike">
                <a:solidFill>
                  <a:srgbClr val="8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int *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 = new in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*p = 1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99"/>
              </a:spcBef>
              <a:buClr>
                <a:srgbClr val="fc012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Can use </a:t>
            </a:r>
            <a:r>
              <a:rPr b="1" lang="en-US" sz="2000" spc="-1" strike="noStrike">
                <a:solidFill>
                  <a:srgbClr val="800000"/>
                </a:solidFill>
                <a:latin typeface="Times New Roman"/>
              </a:rPr>
              <a:t>*p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 like an ordinary vari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int *p, x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 = new in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*p = 1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x = *p + 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99"/>
              </a:spcBef>
              <a:buClr>
                <a:srgbClr val="fc012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Can access the pointer </a:t>
            </a:r>
            <a:r>
              <a:rPr b="1" lang="en-US" sz="2000" spc="-1" strike="noStrike">
                <a:solidFill>
                  <a:srgbClr val="8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 itsel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ut &lt;&lt; 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2478"/>
                </a:solidFill>
                <a:latin typeface="Times New Roman"/>
              </a:rPr>
              <a:t>Accessing memory</a:t>
            </a:r>
            <a:endParaRPr b="0" i="1" lang="en-US" sz="2800" spc="-1" strike="noStrike">
              <a:solidFill>
                <a:srgbClr val="2e2478"/>
              </a:solidFill>
              <a:latin typeface="Times New Roman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5619600" y="1308240"/>
            <a:ext cx="2743200" cy="4787640"/>
            <a:chOff x="5619600" y="1308240"/>
            <a:chExt cx="2743200" cy="4787640"/>
          </a:xfrm>
        </p:grpSpPr>
        <p:sp>
          <p:nvSpPr>
            <p:cNvPr id="239" name=""/>
            <p:cNvSpPr/>
            <p:nvPr/>
          </p:nvSpPr>
          <p:spPr>
            <a:xfrm>
              <a:off x="5626080" y="1308240"/>
              <a:ext cx="2730600" cy="4787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683680" y="5611680"/>
              <a:ext cx="18615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00"/>
                  </a:solidFill>
                  <a:latin typeface="Times New Roman"/>
                </a:rPr>
                <a:t>Global variabl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619600" y="3759120"/>
              <a:ext cx="2743200" cy="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667480" y="1349280"/>
              <a:ext cx="2635200" cy="2365560"/>
            </a:xfrm>
            <a:prstGeom prst="rect">
              <a:avLst/>
            </a:prstGeom>
            <a:solidFill>
              <a:srgbClr val="8caeec"/>
            </a:solidFill>
            <a:ln w="28440">
              <a:solidFill>
                <a:srgbClr val="8cae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676840" y="1371600"/>
              <a:ext cx="1857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00"/>
                  </a:solidFill>
                  <a:latin typeface="Times New Roman"/>
                </a:rPr>
                <a:t>Hea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7839000" y="2381400"/>
            <a:ext cx="109440" cy="1999800"/>
            <a:chOff x="7839000" y="2381400"/>
            <a:chExt cx="109440" cy="1999800"/>
          </a:xfrm>
        </p:grpSpPr>
        <p:sp>
          <p:nvSpPr>
            <p:cNvPr id="245" name=""/>
            <p:cNvSpPr/>
            <p:nvPr/>
          </p:nvSpPr>
          <p:spPr>
            <a:xfrm>
              <a:off x="7839000" y="2441880"/>
              <a:ext cx="109440" cy="1939320"/>
            </a:xfrm>
            <a:custGeom>
              <a:avLst/>
              <a:gdLst/>
              <a:ahLst/>
              <a:rect l="l" t="t" r="r" b="b"/>
              <a:pathLst>
                <a:path w="177" h="1026">
                  <a:moveTo>
                    <a:pt x="0" y="1026"/>
                  </a:moveTo>
                  <a:cubicBezTo>
                    <a:pt x="22" y="1011"/>
                    <a:pt x="35" y="991"/>
                    <a:pt x="54" y="972"/>
                  </a:cubicBezTo>
                  <a:cubicBezTo>
                    <a:pt x="71" y="922"/>
                    <a:pt x="43" y="1001"/>
                    <a:pt x="84" y="918"/>
                  </a:cubicBezTo>
                  <a:cubicBezTo>
                    <a:pt x="95" y="896"/>
                    <a:pt x="99" y="874"/>
                    <a:pt x="114" y="852"/>
                  </a:cubicBezTo>
                  <a:cubicBezTo>
                    <a:pt x="120" y="828"/>
                    <a:pt x="131" y="809"/>
                    <a:pt x="138" y="786"/>
                  </a:cubicBezTo>
                  <a:cubicBezTo>
                    <a:pt x="146" y="756"/>
                    <a:pt x="149" y="726"/>
                    <a:pt x="156" y="696"/>
                  </a:cubicBezTo>
                  <a:cubicBezTo>
                    <a:pt x="168" y="542"/>
                    <a:pt x="177" y="345"/>
                    <a:pt x="126" y="192"/>
                  </a:cubicBezTo>
                  <a:cubicBezTo>
                    <a:pt x="118" y="132"/>
                    <a:pt x="117" y="55"/>
                    <a:pt x="90" y="0"/>
                  </a:cubicBezTo>
                </a:path>
              </a:pathLst>
            </a:custGeom>
            <a:noFill/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887240" y="2381400"/>
              <a:ext cx="14760" cy="192960"/>
            </a:xfrm>
            <a:prstGeom prst="line">
              <a:avLst/>
            </a:prstGeom>
            <a:ln w="28440">
              <a:solidFill>
                <a:srgbClr val="fc012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7" name=""/>
          <p:cNvSpPr/>
          <p:nvPr/>
        </p:nvSpPr>
        <p:spPr>
          <a:xfrm>
            <a:off x="7496280" y="2162160"/>
            <a:ext cx="676080" cy="2001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2619360" y="2076480"/>
            <a:ext cx="752400" cy="0"/>
          </a:xfrm>
          <a:prstGeom prst="line">
            <a:avLst/>
          </a:prstGeom>
          <a:ln w="284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2619360" y="2381400"/>
            <a:ext cx="752400" cy="0"/>
          </a:xfrm>
          <a:prstGeom prst="line">
            <a:avLst/>
          </a:prstGeom>
          <a:ln w="284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2619360" y="2685960"/>
            <a:ext cx="752400" cy="0"/>
          </a:xfrm>
          <a:prstGeom prst="line">
            <a:avLst/>
          </a:prstGeom>
          <a:ln w="284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7262640" y="4248000"/>
            <a:ext cx="928800" cy="368280"/>
            <a:chOff x="7262640" y="4248000"/>
            <a:chExt cx="928800" cy="368280"/>
          </a:xfrm>
        </p:grpSpPr>
        <p:sp>
          <p:nvSpPr>
            <p:cNvPr id="252" name=""/>
            <p:cNvSpPr/>
            <p:nvPr/>
          </p:nvSpPr>
          <p:spPr>
            <a:xfrm>
              <a:off x="7262640" y="42480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515360" y="4371840"/>
              <a:ext cx="676080" cy="200160"/>
            </a:xfrm>
            <a:prstGeom prst="rect">
              <a:avLst/>
            </a:prstGeom>
            <a:solidFill>
              <a:srgbClr val="8caeec"/>
            </a:solidFill>
            <a:ln w="12600">
              <a:solidFill>
                <a:srgbClr val="8cae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 flipH="1">
            <a:off x="2619360" y="4933800"/>
            <a:ext cx="752400" cy="0"/>
          </a:xfrm>
          <a:prstGeom prst="line">
            <a:avLst/>
          </a:prstGeom>
          <a:ln w="284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2619360" y="5915160"/>
            <a:ext cx="752400" cy="0"/>
          </a:xfrm>
          <a:prstGeom prst="line">
            <a:avLst/>
          </a:prstGeom>
          <a:ln w="284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645680" y="21286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49200" y="4338720"/>
            <a:ext cx="607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9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800760" y="206676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990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7272360" y="4724280"/>
            <a:ext cx="928800" cy="368280"/>
            <a:chOff x="7272360" y="4724280"/>
            <a:chExt cx="928800" cy="368280"/>
          </a:xfrm>
        </p:grpSpPr>
        <p:sp>
          <p:nvSpPr>
            <p:cNvPr id="260" name=""/>
            <p:cNvSpPr/>
            <p:nvPr/>
          </p:nvSpPr>
          <p:spPr>
            <a:xfrm>
              <a:off x="7272360" y="47242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525080" y="4848120"/>
              <a:ext cx="676080" cy="200160"/>
            </a:xfrm>
            <a:prstGeom prst="rect">
              <a:avLst/>
            </a:prstGeom>
            <a:solidFill>
              <a:srgbClr val="8caeec"/>
            </a:solidFill>
            <a:ln w="12600">
              <a:solidFill>
                <a:srgbClr val="8cae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2" name=""/>
          <p:cNvSpPr/>
          <p:nvPr/>
        </p:nvSpPr>
        <p:spPr>
          <a:xfrm>
            <a:off x="7687080" y="481500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8124840" y="4476600"/>
            <a:ext cx="752400" cy="0"/>
          </a:xfrm>
          <a:prstGeom prst="line">
            <a:avLst/>
          </a:prstGeom>
          <a:ln w="284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2478"/>
                </a:solidFill>
                <a:latin typeface="Times New Roman"/>
              </a:rPr>
              <a:t>Next lecture…</a:t>
            </a:r>
            <a:endParaRPr b="0" i="1" lang="en-US" sz="2800" spc="-1" strike="noStrike">
              <a:solidFill>
                <a:srgbClr val="2e2478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171440" y="2085840"/>
            <a:ext cx="1200240" cy="543240"/>
          </a:xfrm>
          <a:prstGeom prst="rect">
            <a:avLst/>
          </a:prstGeom>
          <a:solidFill>
            <a:srgbClr val="800000"/>
          </a:soli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333520" y="3219480"/>
            <a:ext cx="1200240" cy="542880"/>
          </a:xfrm>
          <a:prstGeom prst="rect">
            <a:avLst/>
          </a:prstGeom>
          <a:solidFill>
            <a:srgbClr val="0033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676760" y="2590920"/>
            <a:ext cx="1200240" cy="542880"/>
          </a:xfrm>
          <a:prstGeom prst="rect">
            <a:avLst/>
          </a:prstGeom>
          <a:solidFill>
            <a:srgbClr val="2e2478"/>
          </a:solidFill>
          <a:ln w="12600">
            <a:solidFill>
              <a:srgbClr val="2e24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762440" y="4924440"/>
            <a:ext cx="1200240" cy="542880"/>
          </a:xfrm>
          <a:prstGeom prst="rect">
            <a:avLst/>
          </a:prstGeom>
          <a:solidFill>
            <a:srgbClr val="00ae00"/>
          </a:solidFill>
          <a:ln w="1260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781680" y="3238560"/>
            <a:ext cx="1200240" cy="542880"/>
          </a:xfrm>
          <a:prstGeom prst="rect">
            <a:avLst/>
          </a:prstGeom>
          <a:solidFill>
            <a:srgbClr val="618ffd"/>
          </a:solidFill>
          <a:ln w="1260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924520" y="1295280"/>
            <a:ext cx="1200240" cy="542880"/>
          </a:xfrm>
          <a:prstGeom prst="rect">
            <a:avLst/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352600" y="2619360"/>
            <a:ext cx="704880" cy="60948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533760" y="3781440"/>
            <a:ext cx="1523880" cy="114300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H="1" flipV="1">
            <a:off x="5162040" y="3152880"/>
            <a:ext cx="800280" cy="179064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877000" y="3133800"/>
            <a:ext cx="923760" cy="41904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 flipV="1">
            <a:off x="6505200" y="1838160"/>
            <a:ext cx="847800" cy="140040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2478"/>
                </a:solidFill>
                <a:latin typeface="Times New Roman"/>
              </a:rPr>
              <a:t>Scope</a:t>
            </a:r>
            <a:endParaRPr b="0" i="1" lang="en-US" sz="2800" spc="-1" strike="noStrike">
              <a:solidFill>
                <a:srgbClr val="2e2478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786132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8600" indent="-228600">
              <a:spcBef>
                <a:spcPts val="499"/>
              </a:spcBef>
              <a:buClr>
                <a:srgbClr val="fc012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A declaration introduces a name into a </a:t>
            </a:r>
            <a:r>
              <a:rPr b="0" lang="en-US" sz="2000" spc="-1" strike="noStrike">
                <a:solidFill>
                  <a:srgbClr val="800000"/>
                </a:solidFill>
                <a:latin typeface="Times New Roman"/>
              </a:rPr>
              <a:t>scope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2286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228600" indent="-228600">
              <a:spcBef>
                <a:spcPts val="499"/>
              </a:spcBef>
              <a:buClr>
                <a:srgbClr val="fc012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There are two kinds of scope: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c012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Times New Roman"/>
              </a:rPr>
              <a:t>local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 scope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c012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Times New Roman"/>
              </a:rPr>
              <a:t>file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 scope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724280" y="3124080"/>
            <a:ext cx="3854520" cy="29718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00"/>
                </a:solidFill>
                <a:latin typeface="Courier New"/>
              </a:rPr>
              <a:t>int g</a:t>
            </a: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lobal1</a:t>
            </a:r>
            <a:r>
              <a:rPr b="1" lang="en-GB" sz="1800" spc="-1" strike="noStrike">
                <a:solidFill>
                  <a:srgbClr val="0033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00"/>
                </a:solidFill>
                <a:latin typeface="Courier New"/>
              </a:rPr>
              <a:t>void r1(…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3300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local</a:t>
            </a:r>
            <a:r>
              <a:rPr b="1" lang="en-GB" sz="1800" spc="-1" strike="noStrike">
                <a:solidFill>
                  <a:srgbClr val="003300"/>
                </a:solidFill>
                <a:latin typeface="Courier New"/>
              </a:rPr>
              <a:t>1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3300"/>
                </a:solidFill>
                <a:latin typeface="Courier New"/>
              </a:rPr>
              <a:t>…</a:t>
            </a: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00"/>
                </a:solidFill>
                <a:latin typeface="Courier New"/>
              </a:rPr>
              <a:t>void main(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3300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local2</a:t>
            </a:r>
            <a:r>
              <a:rPr b="1" lang="en-GB" sz="1800" spc="-1" strike="noStrike">
                <a:solidFill>
                  <a:srgbClr val="003300"/>
                </a:solidFill>
                <a:latin typeface="Courier New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3300"/>
                </a:solidFill>
                <a:latin typeface="Courier New"/>
              </a:rPr>
              <a:t>…</a:t>
            </a: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7102440" y="3124080"/>
            <a:ext cx="950400" cy="2819160"/>
            <a:chOff x="7102440" y="3124080"/>
            <a:chExt cx="950400" cy="2819160"/>
          </a:xfrm>
        </p:grpSpPr>
        <p:sp>
          <p:nvSpPr>
            <p:cNvPr id="49" name=""/>
            <p:cNvSpPr/>
            <p:nvPr/>
          </p:nvSpPr>
          <p:spPr>
            <a:xfrm>
              <a:off x="7102440" y="3124080"/>
              <a:ext cx="9504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3a00"/>
                  </a:solidFill>
                  <a:latin typeface="Times New Roman"/>
                </a:rPr>
                <a:t>g</a:t>
              </a:r>
              <a:r>
                <a:rPr b="0" lang="en-US" sz="2000" spc="-1" strike="noStrike">
                  <a:solidFill>
                    <a:srgbClr val="003a00"/>
                  </a:solidFill>
                  <a:latin typeface="Times New Roman"/>
                </a:rPr>
                <a:t>lobal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102440" y="3286440"/>
              <a:ext cx="0" cy="2656800"/>
            </a:xfrm>
            <a:prstGeom prst="line">
              <a:avLst/>
            </a:prstGeom>
            <a:ln w="11448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7559640" y="3657600"/>
            <a:ext cx="819360" cy="990720"/>
            <a:chOff x="7559640" y="3657600"/>
            <a:chExt cx="819360" cy="990720"/>
          </a:xfrm>
        </p:grpSpPr>
        <p:sp>
          <p:nvSpPr>
            <p:cNvPr id="52" name=""/>
            <p:cNvSpPr/>
            <p:nvPr/>
          </p:nvSpPr>
          <p:spPr>
            <a:xfrm>
              <a:off x="7572240" y="3657600"/>
              <a:ext cx="8067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a00"/>
                  </a:solidFill>
                  <a:latin typeface="Times New Roman"/>
                </a:rPr>
                <a:t>local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559640" y="3862440"/>
              <a:ext cx="0" cy="785880"/>
            </a:xfrm>
            <a:prstGeom prst="line">
              <a:avLst/>
            </a:prstGeom>
            <a:ln w="11448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7559640" y="4861080"/>
            <a:ext cx="824040" cy="1076040"/>
            <a:chOff x="7559640" y="4861080"/>
            <a:chExt cx="824040" cy="1076040"/>
          </a:xfrm>
        </p:grpSpPr>
        <p:sp>
          <p:nvSpPr>
            <p:cNvPr id="55" name=""/>
            <p:cNvSpPr/>
            <p:nvPr/>
          </p:nvSpPr>
          <p:spPr>
            <a:xfrm>
              <a:off x="7576920" y="4861080"/>
              <a:ext cx="8067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a00"/>
                  </a:solidFill>
                  <a:latin typeface="Times New Roman"/>
                </a:rPr>
                <a:t>local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559640" y="5040360"/>
              <a:ext cx="0" cy="896760"/>
            </a:xfrm>
            <a:prstGeom prst="line">
              <a:avLst/>
            </a:prstGeom>
            <a:ln w="11448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strips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2478"/>
                </a:solidFill>
                <a:latin typeface="Times New Roman"/>
              </a:rPr>
              <a:t>Local scope</a:t>
            </a:r>
            <a:endParaRPr b="0" i="1" lang="en-US" sz="2800" spc="-1" strike="noStrike">
              <a:solidFill>
                <a:srgbClr val="2e2478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786132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8600" indent="-228600">
              <a:spcBef>
                <a:spcPts val="499"/>
              </a:spcBef>
              <a:buClr>
                <a:srgbClr val="fc012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Times New Roman"/>
              </a:rPr>
              <a:t>Local scope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 extends from the point of declaration to the end of the </a:t>
            </a:r>
            <a:r>
              <a:rPr b="0" lang="en-US" sz="2000" spc="-1" strike="noStrike">
                <a:solidFill>
                  <a:srgbClr val="800000"/>
                </a:solidFill>
                <a:latin typeface="Times New Roman"/>
              </a:rPr>
              <a:t>block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 in which the declaration occurred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2286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228600" indent="-228600">
              <a:spcBef>
                <a:spcPts val="499"/>
              </a:spcBef>
              <a:buClr>
                <a:srgbClr val="fc012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A local declaration can </a:t>
            </a:r>
            <a:r>
              <a:rPr b="0" lang="en-US" sz="2000" spc="-1" strike="noStrike">
                <a:solidFill>
                  <a:srgbClr val="800000"/>
                </a:solidFill>
                <a:latin typeface="Times New Roman"/>
              </a:rPr>
              <a:t>hide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 a declaration in an enclosing block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2286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228600" indent="-228600">
              <a:spcBef>
                <a:spcPts val="499"/>
              </a:spcBef>
              <a:buClr>
                <a:srgbClr val="fc012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Block can be: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c012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Times New Roman"/>
              </a:rPr>
              <a:t>routine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 (function or procedure)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c012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Times New Roman"/>
              </a:rPr>
              <a:t>loop statement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c012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Times New Roman"/>
              </a:rPr>
              <a:t>conditional statement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c012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Times New Roman"/>
              </a:rPr>
              <a:t>class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00"/>
                </a:solidFill>
                <a:latin typeface="Times New Roman"/>
              </a:rPr>
              <a:t>more on this later…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724280" y="3048120"/>
            <a:ext cx="3854520" cy="29718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00"/>
                </a:solidFill>
                <a:latin typeface="Courier New"/>
              </a:rPr>
              <a:t>int g</a:t>
            </a: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lobal1</a:t>
            </a:r>
            <a:r>
              <a:rPr b="1" lang="en-GB" sz="1800" spc="-1" strike="noStrike">
                <a:solidFill>
                  <a:srgbClr val="0033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00"/>
                </a:solidFill>
                <a:latin typeface="Courier New"/>
              </a:rPr>
              <a:t>void r1(…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3300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local</a:t>
            </a:r>
            <a:r>
              <a:rPr b="1" lang="en-GB" sz="1800" spc="-1" strike="noStrike">
                <a:solidFill>
                  <a:srgbClr val="003300"/>
                </a:solidFill>
                <a:latin typeface="Courier New"/>
              </a:rPr>
              <a:t>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char global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3300"/>
                </a:solidFill>
                <a:latin typeface="Courier New"/>
              </a:rPr>
              <a:t>…</a:t>
            </a: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00"/>
                </a:solidFill>
                <a:latin typeface="Courier New"/>
              </a:rPr>
              <a:t>void main(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3300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local2</a:t>
            </a:r>
            <a:r>
              <a:rPr b="1" lang="en-GB" sz="1800" spc="-1" strike="noStrike">
                <a:solidFill>
                  <a:srgbClr val="003300"/>
                </a:solidFill>
                <a:latin typeface="Courier New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3300"/>
                </a:solidFill>
                <a:latin typeface="Courier New"/>
              </a:rPr>
              <a:t>…</a:t>
            </a: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543800" y="3733920"/>
            <a:ext cx="961200" cy="914040"/>
            <a:chOff x="7543800" y="3733920"/>
            <a:chExt cx="961200" cy="914040"/>
          </a:xfrm>
        </p:grpSpPr>
        <p:sp>
          <p:nvSpPr>
            <p:cNvPr id="61" name=""/>
            <p:cNvSpPr/>
            <p:nvPr/>
          </p:nvSpPr>
          <p:spPr>
            <a:xfrm>
              <a:off x="7554960" y="3733920"/>
              <a:ext cx="9500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a00"/>
                  </a:solidFill>
                  <a:latin typeface="Times New Roman"/>
                </a:rPr>
                <a:t>global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543800" y="3922920"/>
              <a:ext cx="0" cy="725040"/>
            </a:xfrm>
            <a:prstGeom prst="line">
              <a:avLst/>
            </a:prstGeom>
            <a:ln w="11448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7559640" y="4784760"/>
            <a:ext cx="824040" cy="1076040"/>
            <a:chOff x="7559640" y="4784760"/>
            <a:chExt cx="824040" cy="1076040"/>
          </a:xfrm>
        </p:grpSpPr>
        <p:sp>
          <p:nvSpPr>
            <p:cNvPr id="64" name=""/>
            <p:cNvSpPr/>
            <p:nvPr/>
          </p:nvSpPr>
          <p:spPr>
            <a:xfrm>
              <a:off x="7576920" y="4784760"/>
              <a:ext cx="8067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a00"/>
                  </a:solidFill>
                  <a:latin typeface="Times New Roman"/>
                </a:rPr>
                <a:t>local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559640" y="4964040"/>
              <a:ext cx="0" cy="896760"/>
            </a:xfrm>
            <a:prstGeom prst="line">
              <a:avLst/>
            </a:prstGeom>
            <a:ln w="11448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2478"/>
                </a:solidFill>
                <a:latin typeface="Times New Roman"/>
              </a:rPr>
              <a:t>Global scope</a:t>
            </a:r>
            <a:endParaRPr b="0" i="1" lang="en-US" sz="2800" spc="-1" strike="noStrike">
              <a:solidFill>
                <a:srgbClr val="2e2478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786132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8600" indent="-228600">
              <a:spcBef>
                <a:spcPts val="499"/>
              </a:spcBef>
              <a:buClr>
                <a:srgbClr val="fc012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Times New Roman"/>
              </a:rPr>
              <a:t>Global scope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 extends from the point of declaration to the end of the </a:t>
            </a:r>
            <a:r>
              <a:rPr b="0" lang="en-US" sz="2000" spc="-1" strike="noStrike">
                <a:solidFill>
                  <a:srgbClr val="800000"/>
                </a:solidFill>
                <a:latin typeface="Times New Roman"/>
              </a:rPr>
              <a:t>file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 in which the declaration occurred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2286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228600" indent="-228600">
              <a:spcBef>
                <a:spcPts val="499"/>
              </a:spcBef>
              <a:buClr>
                <a:srgbClr val="fc012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A global scope can be extended from one file to another using: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2286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extern &lt;type&gt; &lt;name&gt;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800000"/>
                </a:solidFill>
                <a:latin typeface="Times New Roman"/>
              </a:rPr>
              <a:t>the global variable is declared in another file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# include “filename.h”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800000"/>
                </a:solidFill>
                <a:latin typeface="Times New Roman"/>
              </a:rPr>
              <a:t>filename.h declares the needed global variable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2286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ransition spd="med"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2478"/>
                </a:solidFill>
                <a:latin typeface="Times New Roman"/>
              </a:rPr>
              <a:t>Storage</a:t>
            </a:r>
            <a:endParaRPr b="0" i="1" lang="en-US" sz="2800" spc="-1" strike="noStrike">
              <a:solidFill>
                <a:srgbClr val="2e2478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786132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8600" indent="-228600">
              <a:spcBef>
                <a:spcPts val="499"/>
              </a:spcBef>
              <a:buClr>
                <a:srgbClr val="fc012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Times New Roman"/>
              </a:rPr>
              <a:t>Global variable: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c012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is created once and lives until the program terminates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c012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has a fixed size which is set in the source code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c012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is given space in program memory when the program starts executing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2286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2286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228600" indent="-228600">
              <a:spcBef>
                <a:spcPts val="499"/>
              </a:spcBef>
              <a:buClr>
                <a:srgbClr val="fc012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Times New Roman"/>
              </a:rPr>
              <a:t>Local variable: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c012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is created automatically when its local block starts executing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c012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is destroyed automatically when its local block stops executing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c012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has fixed size which is set in the source code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c012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is given space in the stack area of the memory once the block starts executing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ransition spd="med"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2478"/>
                </a:solidFill>
                <a:latin typeface="Times New Roman"/>
              </a:rPr>
              <a:t>Memory Layout</a:t>
            </a:r>
            <a:endParaRPr b="0" i="1" lang="en-US" sz="2800" spc="-1" strike="noStrike">
              <a:solidFill>
                <a:srgbClr val="2e2478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352680" y="1752480"/>
            <a:ext cx="3052800" cy="3429000"/>
            <a:chOff x="3352680" y="1752480"/>
            <a:chExt cx="3052800" cy="3429000"/>
          </a:xfrm>
        </p:grpSpPr>
        <p:sp>
          <p:nvSpPr>
            <p:cNvPr id="72" name=""/>
            <p:cNvSpPr/>
            <p:nvPr/>
          </p:nvSpPr>
          <p:spPr>
            <a:xfrm>
              <a:off x="4800600" y="1752480"/>
              <a:ext cx="1600200" cy="3429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V="1">
              <a:off x="3352680" y="1752480"/>
              <a:ext cx="1447920" cy="1067040"/>
            </a:xfrm>
            <a:prstGeom prst="line">
              <a:avLst/>
            </a:prstGeom>
            <a:ln w="19080">
              <a:solidFill>
                <a:srgbClr val="fc0128"/>
              </a:solidFill>
              <a:prstDash val="lgDashDot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352680" y="3581280"/>
              <a:ext cx="1447920" cy="1600200"/>
            </a:xfrm>
            <a:prstGeom prst="line">
              <a:avLst/>
            </a:prstGeom>
            <a:ln w="19080">
              <a:solidFill>
                <a:srgbClr val="fc0128"/>
              </a:solidFill>
              <a:prstDash val="lgDashDot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800600" y="2362320"/>
              <a:ext cx="1600200" cy="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00600" y="2971800"/>
              <a:ext cx="1600200" cy="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800600" y="3581280"/>
              <a:ext cx="1600200" cy="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853520" y="1814400"/>
              <a:ext cx="15519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3300"/>
                  </a:solidFill>
                  <a:latin typeface="Times New Roman"/>
                </a:rPr>
                <a:t>main</a:t>
              </a:r>
              <a:r>
                <a:rPr b="0" lang="en-US" sz="2000" spc="-1" strike="noStrike">
                  <a:solidFill>
                    <a:srgbClr val="003300"/>
                  </a:solidFill>
                  <a:latin typeface="Times New Roman"/>
                </a:rPr>
                <a:t> (local3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995000" y="2424240"/>
              <a:ext cx="12686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3300"/>
                  </a:solidFill>
                  <a:latin typeface="Times New Roman"/>
                </a:rPr>
                <a:t>r2 </a:t>
              </a:r>
              <a:r>
                <a:rPr b="0" lang="en-US" sz="2000" spc="-1" strike="noStrike">
                  <a:solidFill>
                    <a:srgbClr val="003300"/>
                  </a:solidFill>
                  <a:latin typeface="Times New Roman"/>
                </a:rPr>
                <a:t>(local2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995000" y="3033720"/>
              <a:ext cx="12686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3300"/>
                  </a:solidFill>
                  <a:latin typeface="Times New Roman"/>
                </a:rPr>
                <a:t>r1 </a:t>
              </a:r>
              <a:r>
                <a:rPr b="0" lang="en-US" sz="2000" spc="-1" strike="noStrike">
                  <a:solidFill>
                    <a:srgbClr val="003300"/>
                  </a:solidFill>
                  <a:latin typeface="Times New Roman"/>
                </a:rPr>
                <a:t>(local1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23080" y="4175280"/>
              <a:ext cx="12106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00"/>
                  </a:solidFill>
                  <a:latin typeface="Times New Roman"/>
                </a:rPr>
                <a:t>free 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609480" y="1301760"/>
            <a:ext cx="2743200" cy="4788000"/>
            <a:chOff x="609480" y="1301760"/>
            <a:chExt cx="2743200" cy="4788000"/>
          </a:xfrm>
        </p:grpSpPr>
        <p:sp>
          <p:nvSpPr>
            <p:cNvPr id="83" name=""/>
            <p:cNvSpPr/>
            <p:nvPr/>
          </p:nvSpPr>
          <p:spPr>
            <a:xfrm>
              <a:off x="615960" y="1301760"/>
              <a:ext cx="2730600" cy="4788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09480" y="4343400"/>
              <a:ext cx="2743200" cy="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35120" y="5105520"/>
              <a:ext cx="261756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00"/>
                  </a:solidFill>
                  <a:latin typeface="Times New Roman"/>
                </a:rPr>
                <a:t>Program instructions </a:t>
              </a:r>
              <a:br>
                <a:rPr sz="2000"/>
              </a:br>
              <a:r>
                <a:rPr b="0" lang="en-US" sz="2000" spc="-1" strike="noStrike">
                  <a:solidFill>
                    <a:srgbClr val="003300"/>
                  </a:solidFill>
                  <a:latin typeface="Times New Roman"/>
                </a:rPr>
                <a:t>(main, r1 and r2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09480" y="5029200"/>
              <a:ext cx="2743200" cy="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28280" y="4405320"/>
              <a:ext cx="22028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00"/>
                  </a:solidFill>
                  <a:latin typeface="Times New Roman"/>
                </a:rPr>
                <a:t>Library instruc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09480" y="3581280"/>
              <a:ext cx="2743200" cy="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29000" y="3719520"/>
              <a:ext cx="2160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00"/>
                  </a:solidFill>
                  <a:latin typeface="Times New Roman"/>
                </a:rPr>
                <a:t>Variables (global1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09480" y="2819520"/>
              <a:ext cx="2743200" cy="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33680" y="2881440"/>
              <a:ext cx="750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00"/>
                  </a:solidFill>
                  <a:latin typeface="Times New Roman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32600" y="1736640"/>
              <a:ext cx="14086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00"/>
                  </a:solidFill>
                  <a:latin typeface="Times New Roman"/>
                </a:rPr>
                <a:t>Rest (Heap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6400800" y="3352680"/>
            <a:ext cx="2133720" cy="397440"/>
            <a:chOff x="6400800" y="3352680"/>
            <a:chExt cx="2133720" cy="397440"/>
          </a:xfrm>
        </p:grpSpPr>
        <p:sp>
          <p:nvSpPr>
            <p:cNvPr id="94" name=""/>
            <p:cNvSpPr/>
            <p:nvPr/>
          </p:nvSpPr>
          <p:spPr>
            <a:xfrm flipH="1">
              <a:off x="6400800" y="3581280"/>
              <a:ext cx="463680" cy="0"/>
            </a:xfrm>
            <a:prstGeom prst="line">
              <a:avLst/>
            </a:prstGeom>
            <a:ln w="1908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858000" y="3352680"/>
              <a:ext cx="1676520" cy="397440"/>
            </a:xfrm>
            <a:prstGeom prst="rect">
              <a:avLst/>
            </a:prstGeom>
            <a:noFill/>
            <a:ln w="1908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00"/>
                  </a:solidFill>
                  <a:latin typeface="Times New Roman"/>
                </a:rPr>
                <a:t>Stack Poin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strips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2478"/>
                </a:solidFill>
                <a:latin typeface="Times New Roman"/>
              </a:rPr>
              <a:t>Exception to the rule</a:t>
            </a:r>
            <a:endParaRPr b="0" i="1" lang="en-US" sz="2800" spc="-1" strike="noStrike">
              <a:solidFill>
                <a:srgbClr val="2e2478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3854520" cy="4800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00"/>
                </a:solidFill>
                <a:latin typeface="Courier New"/>
              </a:rPr>
              <a:t>#</a:t>
            </a: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3300"/>
                </a:solidFill>
                <a:latin typeface="Courier New"/>
              </a:rPr>
              <a:t>include&lt;…&gt;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00"/>
                </a:solidFill>
                <a:latin typeface="Courier New"/>
              </a:rPr>
              <a:t>int g</a:t>
            </a: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lobal1</a:t>
            </a:r>
            <a:r>
              <a:rPr b="1" lang="en-GB" sz="1800" spc="-1" strike="noStrike">
                <a:solidFill>
                  <a:srgbClr val="0033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00"/>
                </a:solidFill>
                <a:latin typeface="Courier New"/>
              </a:rPr>
              <a:t>void r1(…){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3300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local</a:t>
            </a:r>
            <a:r>
              <a:rPr b="1" lang="en-GB" sz="1800" spc="-1" strike="noStrike">
                <a:solidFill>
                  <a:srgbClr val="003300"/>
                </a:solidFill>
                <a:latin typeface="Courier New"/>
              </a:rPr>
              <a:t>1;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3300"/>
                </a:solidFill>
                <a:latin typeface="Courier New"/>
              </a:rPr>
              <a:t>…</a:t>
            </a: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00"/>
                </a:solidFill>
                <a:latin typeface="Courier New"/>
              </a:rPr>
              <a:t>void main(){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3300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local</a:t>
            </a:r>
            <a:r>
              <a:rPr b="1" lang="en-GB" sz="1800" spc="-1" strike="noStrike">
                <a:solidFill>
                  <a:srgbClr val="003300"/>
                </a:solidFill>
                <a:latin typeface="Courier New"/>
              </a:rPr>
              <a:t>3;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r1(…);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r1(…);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r1(…);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3300"/>
                </a:solidFill>
                <a:latin typeface="Courier New"/>
              </a:rPr>
              <a:t>…</a:t>
            </a: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15920" y="1371240"/>
            <a:ext cx="385452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buClr>
                <a:srgbClr val="fc012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It is possible to have a fixed place allocated to a procedure’s local variable in the memory rather than the stack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171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171360" indent="-171360">
              <a:buClr>
                <a:srgbClr val="fc012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This can be done using the </a:t>
            </a:r>
            <a:r>
              <a:rPr b="0" lang="en-US" sz="2000" spc="-1" strike="noStrike">
                <a:solidFill>
                  <a:srgbClr val="800000"/>
                </a:solidFill>
                <a:latin typeface="Times New Roman"/>
              </a:rPr>
              <a:t>static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 keyword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171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171360" indent="-171360">
              <a:buClr>
                <a:srgbClr val="fc012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The value of a static local variable </a:t>
            </a:r>
            <a:r>
              <a:rPr b="0" lang="en-US" sz="2000" spc="-1" strike="noStrike">
                <a:solidFill>
                  <a:srgbClr val="800000"/>
                </a:solidFill>
                <a:latin typeface="Times New Roman"/>
              </a:rPr>
              <a:t>doesn’t change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 from call to cal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171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171360" indent="-171360">
              <a:buClr>
                <a:srgbClr val="fc012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A static variable remains private to the routine in which it is declared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39880" y="2895480"/>
            <a:ext cx="292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Courier New"/>
              </a:rPr>
              <a:t>static int local2</a:t>
            </a:r>
            <a:r>
              <a:rPr b="0" lang="en-GB" sz="2000" spc="-1" strike="noStrike">
                <a:solidFill>
                  <a:srgbClr val="0033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2478"/>
                </a:solidFill>
                <a:latin typeface="Times New Roman"/>
              </a:rPr>
              <a:t>Exception to the rule</a:t>
            </a:r>
            <a:endParaRPr b="0" i="1" lang="en-US" sz="2800" spc="-1" strike="noStrike">
              <a:solidFill>
                <a:srgbClr val="2e2478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4419720" cy="4800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txBody>
          <a:bodyPr lIns="90360" rIns="90360" tIns="44280" bIns="44280" anchor="t">
            <a:normAutofit fontScale="99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# include&lt;iostream.h&gt;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void printout(int val){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3300"/>
                </a:solidFill>
                <a:latin typeface="Courier New"/>
              </a:rPr>
              <a:t>static int first_time = 1;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if (first_time){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cout &lt;&lt; “Results\n”;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first_time = 0;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cout &lt;&lt; val &lt;&lt; “\n”;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00"/>
                </a:solidFill>
                <a:latin typeface="Courier New"/>
              </a:rPr>
              <a:t>void main(){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printout(05);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printout(18);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printout(25);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printout(26);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4724280"/>
            <a:ext cx="3321000" cy="1371600"/>
          </a:xfrm>
          <a:prstGeom prst="rect">
            <a:avLst/>
          </a:prstGeom>
          <a:noFill/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Resu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a00"/>
                </a:solidFill>
                <a:latin typeface="Courier New"/>
              </a:rPr>
              <a:t>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a00"/>
                </a:solidFill>
                <a:latin typeface="Courier New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a00"/>
                </a:solidFill>
                <a:latin typeface="Courier New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895800">
            <a:off x="4439880" y="2126520"/>
            <a:ext cx="3505320" cy="1556280"/>
          </a:xfrm>
          <a:prstGeom prst="rect">
            <a:avLst/>
          </a:prstGeom>
          <a:noFill/>
          <a:ln w="572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0128"/>
                </a:solidFill>
                <a:latin typeface="Impact"/>
              </a:rPr>
              <a:t>Not a good program structur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5638680" y="1758600"/>
            <a:ext cx="3048120" cy="3429360"/>
            <a:chOff x="5638680" y="1758600"/>
            <a:chExt cx="3048120" cy="3429360"/>
          </a:xfrm>
        </p:grpSpPr>
        <p:sp>
          <p:nvSpPr>
            <p:cNvPr id="105" name=""/>
            <p:cNvSpPr/>
            <p:nvPr/>
          </p:nvSpPr>
          <p:spPr>
            <a:xfrm>
              <a:off x="7086600" y="1758960"/>
              <a:ext cx="1600200" cy="3429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V="1">
              <a:off x="5638680" y="1758600"/>
              <a:ext cx="1447920" cy="1066680"/>
            </a:xfrm>
            <a:prstGeom prst="line">
              <a:avLst/>
            </a:prstGeom>
            <a:ln w="19080">
              <a:solidFill>
                <a:srgbClr val="fc0128"/>
              </a:solidFill>
              <a:prstDash val="lgDashDot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638680" y="3587760"/>
              <a:ext cx="1447920" cy="1600200"/>
            </a:xfrm>
            <a:prstGeom prst="line">
              <a:avLst/>
            </a:prstGeom>
            <a:ln w="19080">
              <a:solidFill>
                <a:srgbClr val="fc0128"/>
              </a:solidFill>
              <a:prstDash val="lgDashDot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309080" y="4181400"/>
              <a:ext cx="12106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00"/>
                  </a:solidFill>
                  <a:latin typeface="Times New Roman"/>
                </a:rPr>
                <a:t>free 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2478"/>
                </a:solidFill>
                <a:latin typeface="Times New Roman"/>
              </a:rPr>
              <a:t>Static memory allocation</a:t>
            </a:r>
            <a:endParaRPr b="0" i="1" lang="en-US" sz="2800" spc="-1" strike="noStrike">
              <a:solidFill>
                <a:srgbClr val="2e2478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1981440" cy="4800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00"/>
                </a:solidFill>
                <a:latin typeface="Courier New"/>
              </a:rPr>
              <a:t>#</a:t>
            </a: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3300"/>
                </a:solidFill>
                <a:latin typeface="Courier New"/>
              </a:rPr>
              <a:t>include&lt;…&gt;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00"/>
                </a:solidFill>
                <a:latin typeface="Courier New"/>
              </a:rPr>
              <a:t>int g</a:t>
            </a: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lobal1</a:t>
            </a:r>
            <a:r>
              <a:rPr b="1" lang="en-GB" sz="1800" spc="-1" strike="noStrike">
                <a:solidFill>
                  <a:srgbClr val="0033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00"/>
                </a:solidFill>
                <a:latin typeface="Courier New"/>
              </a:rPr>
              <a:t>void r1(…){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3300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local</a:t>
            </a:r>
            <a:r>
              <a:rPr b="1" lang="en-GB" sz="1800" spc="-1" strike="noStrike">
                <a:solidFill>
                  <a:srgbClr val="003300"/>
                </a:solidFill>
                <a:latin typeface="Courier New"/>
              </a:rPr>
              <a:t>1; 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3300"/>
                </a:solidFill>
                <a:latin typeface="Courier New"/>
              </a:rPr>
              <a:t>…</a:t>
            </a: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00"/>
                </a:solidFill>
                <a:latin typeface="Courier New"/>
              </a:rPr>
              <a:t>void r2(…){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3300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local</a:t>
            </a:r>
            <a:r>
              <a:rPr b="1" lang="en-GB" sz="1800" spc="-1" strike="noStrike">
                <a:solidFill>
                  <a:srgbClr val="003300"/>
                </a:solidFill>
                <a:latin typeface="Courier New"/>
              </a:rPr>
              <a:t>2;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r1(…);</a:t>
            </a:r>
            <a:r>
              <a:rPr b="1" lang="en-GB" sz="1800" spc="-1" strike="noStrike">
                <a:solidFill>
                  <a:srgbClr val="0033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3300"/>
                </a:solidFill>
                <a:latin typeface="Courier New"/>
              </a:rPr>
              <a:t>…</a:t>
            </a: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00"/>
                </a:solidFill>
                <a:latin typeface="Courier New"/>
              </a:rPr>
              <a:t>void main(){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3300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local</a:t>
            </a:r>
            <a:r>
              <a:rPr b="1" lang="en-GB" sz="1800" spc="-1" strike="noStrike">
                <a:solidFill>
                  <a:srgbClr val="003300"/>
                </a:solidFill>
                <a:latin typeface="Courier New"/>
              </a:rPr>
              <a:t>3;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r2(…);</a:t>
            </a:r>
            <a:r>
              <a:rPr b="1" lang="en-GB" sz="1800" spc="-1" strike="noStrike">
                <a:solidFill>
                  <a:srgbClr val="0033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3300"/>
                </a:solidFill>
                <a:latin typeface="Courier New"/>
              </a:rPr>
              <a:t>…</a:t>
            </a: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7006320" y="1676520"/>
            <a:ext cx="1680480" cy="691920"/>
            <a:chOff x="7006320" y="1676520"/>
            <a:chExt cx="1680480" cy="691920"/>
          </a:xfrm>
        </p:grpSpPr>
        <p:sp>
          <p:nvSpPr>
            <p:cNvPr id="112" name=""/>
            <p:cNvSpPr/>
            <p:nvPr/>
          </p:nvSpPr>
          <p:spPr>
            <a:xfrm>
              <a:off x="7086600" y="2368440"/>
              <a:ext cx="1600200" cy="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06320" y="1676520"/>
              <a:ext cx="16372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3300"/>
                  </a:solidFill>
                  <a:latin typeface="Times New Roman"/>
                </a:rPr>
                <a:t>main    </a:t>
              </a:r>
              <a:r>
                <a:rPr b="0" lang="en-US" sz="2000" spc="-1" strike="noStrike">
                  <a:solidFill>
                    <a:srgbClr val="003300"/>
                  </a:solidFill>
                  <a:latin typeface="Times New Roman"/>
                </a:rPr>
                <a:t> local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7086600" y="2286000"/>
            <a:ext cx="1604880" cy="692280"/>
            <a:chOff x="7086600" y="2286000"/>
            <a:chExt cx="1604880" cy="692280"/>
          </a:xfrm>
        </p:grpSpPr>
        <p:sp>
          <p:nvSpPr>
            <p:cNvPr id="115" name=""/>
            <p:cNvSpPr/>
            <p:nvPr/>
          </p:nvSpPr>
          <p:spPr>
            <a:xfrm>
              <a:off x="7086600" y="2978280"/>
              <a:ext cx="1600200" cy="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145640" y="2286000"/>
              <a:ext cx="15458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3300"/>
                  </a:solidFill>
                  <a:latin typeface="Times New Roman"/>
                </a:rPr>
                <a:t>r2        </a:t>
              </a:r>
              <a:r>
                <a:rPr b="0" lang="en-US" sz="2000" spc="-1" strike="noStrike">
                  <a:solidFill>
                    <a:srgbClr val="003300"/>
                  </a:solidFill>
                  <a:latin typeface="Times New Roman"/>
                </a:rPr>
                <a:t>local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7086600" y="2895480"/>
            <a:ext cx="1600200" cy="692280"/>
            <a:chOff x="7086600" y="2895480"/>
            <a:chExt cx="1600200" cy="692280"/>
          </a:xfrm>
        </p:grpSpPr>
        <p:sp>
          <p:nvSpPr>
            <p:cNvPr id="118" name=""/>
            <p:cNvSpPr/>
            <p:nvPr/>
          </p:nvSpPr>
          <p:spPr>
            <a:xfrm>
              <a:off x="7086600" y="3587760"/>
              <a:ext cx="1600200" cy="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140600" y="2895480"/>
              <a:ext cx="1546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3300"/>
                  </a:solidFill>
                  <a:latin typeface="Times New Roman"/>
                </a:rPr>
                <a:t>r1 </a:t>
              </a:r>
              <a:r>
                <a:rPr b="0" lang="en-US" sz="2000" spc="-1" strike="noStrike">
                  <a:solidFill>
                    <a:srgbClr val="003300"/>
                  </a:solidFill>
                  <a:latin typeface="Times New Roman"/>
                </a:rPr>
                <a:t>       local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2895480" y="1308240"/>
            <a:ext cx="2743200" cy="4787640"/>
            <a:chOff x="2895480" y="1308240"/>
            <a:chExt cx="2743200" cy="4787640"/>
          </a:xfrm>
        </p:grpSpPr>
        <p:sp>
          <p:nvSpPr>
            <p:cNvPr id="121" name=""/>
            <p:cNvSpPr/>
            <p:nvPr/>
          </p:nvSpPr>
          <p:spPr>
            <a:xfrm>
              <a:off x="2901960" y="1308240"/>
              <a:ext cx="2730600" cy="4787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895480" y="4349880"/>
              <a:ext cx="2743200" cy="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021120" y="5111640"/>
              <a:ext cx="261756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00"/>
                  </a:solidFill>
                  <a:latin typeface="Times New Roman"/>
                </a:rPr>
                <a:t>Program instructions </a:t>
              </a:r>
              <a:br>
                <a:rPr sz="2000"/>
              </a:br>
              <a:r>
                <a:rPr b="0" lang="en-US" sz="2000" spc="-1" strike="noStrike">
                  <a:solidFill>
                    <a:srgbClr val="003300"/>
                  </a:solidFill>
                  <a:latin typeface="Times New Roman"/>
                </a:rPr>
                <a:t>(main, r1 and r2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895480" y="5035680"/>
              <a:ext cx="2743200" cy="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014280" y="4411800"/>
              <a:ext cx="22028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00"/>
                  </a:solidFill>
                  <a:latin typeface="Times New Roman"/>
                </a:rPr>
                <a:t>Library instruc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895480" y="3587760"/>
              <a:ext cx="2743200" cy="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018960" y="3726000"/>
              <a:ext cx="11602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00"/>
                  </a:solidFill>
                  <a:latin typeface="Times New Roman"/>
                </a:rPr>
                <a:t>Variabl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95480" y="2825640"/>
              <a:ext cx="2743200" cy="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019680" y="2887560"/>
              <a:ext cx="750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00"/>
                  </a:solidFill>
                  <a:latin typeface="Times New Roman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018600" y="1743120"/>
              <a:ext cx="14086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00"/>
                  </a:solidFill>
                  <a:latin typeface="Times New Roman"/>
                </a:rPr>
                <a:t>Rest (Heap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480" y="1663560"/>
            <a:ext cx="1841760" cy="584280"/>
          </a:xfrm>
          <a:custGeom>
            <a:avLst/>
            <a:gdLst/>
            <a:ahLst/>
            <a:rect l="l" t="t" r="r" b="b"/>
            <a:pathLst>
              <a:path w="1208" h="368">
                <a:moveTo>
                  <a:pt x="560" y="344"/>
                </a:moveTo>
                <a:cubicBezTo>
                  <a:pt x="696" y="352"/>
                  <a:pt x="792" y="368"/>
                  <a:pt x="896" y="344"/>
                </a:cubicBezTo>
                <a:cubicBezTo>
                  <a:pt x="1000" y="320"/>
                  <a:pt x="1160" y="248"/>
                  <a:pt x="1184" y="200"/>
                </a:cubicBezTo>
                <a:cubicBezTo>
                  <a:pt x="1208" y="152"/>
                  <a:pt x="1160" y="88"/>
                  <a:pt x="1040" y="56"/>
                </a:cubicBezTo>
                <a:cubicBezTo>
                  <a:pt x="920" y="24"/>
                  <a:pt x="624" y="0"/>
                  <a:pt x="464" y="8"/>
                </a:cubicBezTo>
                <a:cubicBezTo>
                  <a:pt x="304" y="16"/>
                  <a:pt x="144" y="56"/>
                  <a:pt x="80" y="104"/>
                </a:cubicBezTo>
                <a:cubicBezTo>
                  <a:pt x="16" y="152"/>
                  <a:pt x="0" y="256"/>
                  <a:pt x="80" y="296"/>
                </a:cubicBezTo>
                <a:cubicBezTo>
                  <a:pt x="160" y="336"/>
                  <a:pt x="424" y="336"/>
                  <a:pt x="560" y="344"/>
                </a:cubicBezTo>
                <a:close/>
              </a:path>
            </a:pathLst>
          </a:custGeom>
          <a:noFill/>
          <a:ln w="2844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4340520" y="3581280"/>
            <a:ext cx="1014120" cy="609840"/>
            <a:chOff x="4340520" y="3581280"/>
            <a:chExt cx="1014120" cy="609840"/>
          </a:xfrm>
        </p:grpSpPr>
        <p:sp>
          <p:nvSpPr>
            <p:cNvPr id="133" name=""/>
            <p:cNvSpPr/>
            <p:nvPr/>
          </p:nvSpPr>
          <p:spPr>
            <a:xfrm>
              <a:off x="4340520" y="3581280"/>
              <a:ext cx="10141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3300"/>
                  </a:solidFill>
                  <a:latin typeface="Times New Roman"/>
                </a:rPr>
                <a:t>global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419720" y="3962520"/>
              <a:ext cx="914400" cy="22860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784080" y="4800600"/>
            <a:ext cx="1741680" cy="304920"/>
          </a:xfrm>
          <a:custGeom>
            <a:avLst/>
            <a:gdLst/>
            <a:ahLst/>
            <a:rect l="l" t="t" r="r" b="b"/>
            <a:pathLst>
              <a:path w="1097" h="236">
                <a:moveTo>
                  <a:pt x="730" y="200"/>
                </a:moveTo>
                <a:cubicBezTo>
                  <a:pt x="675" y="218"/>
                  <a:pt x="619" y="228"/>
                  <a:pt x="562" y="236"/>
                </a:cubicBezTo>
                <a:cubicBezTo>
                  <a:pt x="426" y="232"/>
                  <a:pt x="304" y="224"/>
                  <a:pt x="172" y="212"/>
                </a:cubicBezTo>
                <a:cubicBezTo>
                  <a:pt x="129" y="203"/>
                  <a:pt x="93" y="196"/>
                  <a:pt x="52" y="182"/>
                </a:cubicBezTo>
                <a:cubicBezTo>
                  <a:pt x="38" y="177"/>
                  <a:pt x="16" y="158"/>
                  <a:pt x="16" y="158"/>
                </a:cubicBezTo>
                <a:cubicBezTo>
                  <a:pt x="11" y="121"/>
                  <a:pt x="0" y="91"/>
                  <a:pt x="34" y="68"/>
                </a:cubicBezTo>
                <a:cubicBezTo>
                  <a:pt x="70" y="15"/>
                  <a:pt x="151" y="13"/>
                  <a:pt x="208" y="8"/>
                </a:cubicBezTo>
                <a:cubicBezTo>
                  <a:pt x="336" y="14"/>
                  <a:pt x="445" y="19"/>
                  <a:pt x="574" y="14"/>
                </a:cubicBezTo>
                <a:cubicBezTo>
                  <a:pt x="699" y="0"/>
                  <a:pt x="754" y="4"/>
                  <a:pt x="910" y="8"/>
                </a:cubicBezTo>
                <a:cubicBezTo>
                  <a:pt x="966" y="15"/>
                  <a:pt x="1029" y="18"/>
                  <a:pt x="1078" y="50"/>
                </a:cubicBezTo>
                <a:cubicBezTo>
                  <a:pt x="1089" y="83"/>
                  <a:pt x="1097" y="109"/>
                  <a:pt x="1084" y="146"/>
                </a:cubicBezTo>
                <a:cubicBezTo>
                  <a:pt x="1081" y="155"/>
                  <a:pt x="1039" y="177"/>
                  <a:pt x="1030" y="182"/>
                </a:cubicBezTo>
                <a:cubicBezTo>
                  <a:pt x="988" y="205"/>
                  <a:pt x="963" y="224"/>
                  <a:pt x="916" y="236"/>
                </a:cubicBezTo>
                <a:cubicBezTo>
                  <a:pt x="881" y="233"/>
                  <a:pt x="843" y="234"/>
                  <a:pt x="808" y="224"/>
                </a:cubicBezTo>
                <a:cubicBezTo>
                  <a:pt x="790" y="219"/>
                  <a:pt x="772" y="211"/>
                  <a:pt x="754" y="206"/>
                </a:cubicBezTo>
                <a:cubicBezTo>
                  <a:pt x="746" y="204"/>
                  <a:pt x="730" y="200"/>
                  <a:pt x="730" y="200"/>
                </a:cubicBezTo>
                <a:close/>
              </a:path>
            </a:pathLst>
          </a:custGeom>
          <a:noFill/>
          <a:ln w="28440">
            <a:solidFill>
              <a:srgbClr val="757de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09640" y="3533760"/>
            <a:ext cx="1733400" cy="285840"/>
          </a:xfrm>
          <a:custGeom>
            <a:avLst/>
            <a:gdLst/>
            <a:ahLst/>
            <a:rect l="l" t="t" r="r" b="b"/>
            <a:pathLst>
              <a:path w="1092" h="180">
                <a:moveTo>
                  <a:pt x="390" y="174"/>
                </a:moveTo>
                <a:cubicBezTo>
                  <a:pt x="270" y="170"/>
                  <a:pt x="214" y="170"/>
                  <a:pt x="108" y="180"/>
                </a:cubicBezTo>
                <a:cubicBezTo>
                  <a:pt x="50" y="174"/>
                  <a:pt x="31" y="179"/>
                  <a:pt x="0" y="132"/>
                </a:cubicBezTo>
                <a:cubicBezTo>
                  <a:pt x="2" y="114"/>
                  <a:pt x="2" y="96"/>
                  <a:pt x="6" y="78"/>
                </a:cubicBezTo>
                <a:cubicBezTo>
                  <a:pt x="10" y="60"/>
                  <a:pt x="43" y="40"/>
                  <a:pt x="54" y="36"/>
                </a:cubicBezTo>
                <a:cubicBezTo>
                  <a:pt x="120" y="14"/>
                  <a:pt x="166" y="11"/>
                  <a:pt x="240" y="6"/>
                </a:cubicBezTo>
                <a:cubicBezTo>
                  <a:pt x="327" y="10"/>
                  <a:pt x="411" y="18"/>
                  <a:pt x="498" y="24"/>
                </a:cubicBezTo>
                <a:cubicBezTo>
                  <a:pt x="643" y="19"/>
                  <a:pt x="786" y="7"/>
                  <a:pt x="930" y="0"/>
                </a:cubicBezTo>
                <a:cubicBezTo>
                  <a:pt x="960" y="4"/>
                  <a:pt x="998" y="4"/>
                  <a:pt x="1026" y="18"/>
                </a:cubicBezTo>
                <a:cubicBezTo>
                  <a:pt x="1073" y="41"/>
                  <a:pt x="1017" y="21"/>
                  <a:pt x="1062" y="36"/>
                </a:cubicBezTo>
                <a:cubicBezTo>
                  <a:pt x="1068" y="42"/>
                  <a:pt x="1075" y="47"/>
                  <a:pt x="1080" y="54"/>
                </a:cubicBezTo>
                <a:cubicBezTo>
                  <a:pt x="1092" y="72"/>
                  <a:pt x="1084" y="104"/>
                  <a:pt x="1080" y="120"/>
                </a:cubicBezTo>
                <a:cubicBezTo>
                  <a:pt x="1069" y="160"/>
                  <a:pt x="973" y="175"/>
                  <a:pt x="936" y="180"/>
                </a:cubicBezTo>
                <a:cubicBezTo>
                  <a:pt x="542" y="172"/>
                  <a:pt x="736" y="174"/>
                  <a:pt x="354" y="174"/>
                </a:cubicBezTo>
              </a:path>
            </a:pathLst>
          </a:custGeom>
          <a:noFill/>
          <a:ln w="28440">
            <a:solidFill>
              <a:srgbClr val="00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915320" y="2057400"/>
            <a:ext cx="685800" cy="228600"/>
          </a:xfrm>
          <a:prstGeom prst="rect">
            <a:avLst/>
          </a:prstGeom>
          <a:solidFill>
            <a:srgbClr val="618ffd"/>
          </a:solidFill>
          <a:ln w="12600">
            <a:solidFill>
              <a:srgbClr val="757d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924680" y="2666880"/>
            <a:ext cx="685800" cy="228600"/>
          </a:xfrm>
          <a:prstGeom prst="rect">
            <a:avLst/>
          </a:prstGeom>
          <a:solidFill>
            <a:srgbClr val="0033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924680" y="3276720"/>
            <a:ext cx="685800" cy="228600"/>
          </a:xfrm>
          <a:prstGeom prst="rect">
            <a:avLst/>
          </a:prstGeom>
          <a:solidFill>
            <a:srgbClr val="919191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16120" y="2543040"/>
            <a:ext cx="1717560" cy="400320"/>
          </a:xfrm>
          <a:custGeom>
            <a:avLst/>
            <a:gdLst/>
            <a:ahLst/>
            <a:rect l="l" t="t" r="r" b="b"/>
            <a:pathLst>
              <a:path w="1082" h="252">
                <a:moveTo>
                  <a:pt x="392" y="192"/>
                </a:moveTo>
                <a:cubicBezTo>
                  <a:pt x="371" y="190"/>
                  <a:pt x="251" y="180"/>
                  <a:pt x="236" y="180"/>
                </a:cubicBezTo>
                <a:cubicBezTo>
                  <a:pt x="218" y="180"/>
                  <a:pt x="200" y="183"/>
                  <a:pt x="182" y="186"/>
                </a:cubicBezTo>
                <a:cubicBezTo>
                  <a:pt x="162" y="189"/>
                  <a:pt x="122" y="198"/>
                  <a:pt x="122" y="198"/>
                </a:cubicBezTo>
                <a:cubicBezTo>
                  <a:pt x="100" y="195"/>
                  <a:pt x="73" y="200"/>
                  <a:pt x="56" y="186"/>
                </a:cubicBezTo>
                <a:cubicBezTo>
                  <a:pt x="50" y="181"/>
                  <a:pt x="49" y="173"/>
                  <a:pt x="44" y="168"/>
                </a:cubicBezTo>
                <a:cubicBezTo>
                  <a:pt x="39" y="163"/>
                  <a:pt x="32" y="160"/>
                  <a:pt x="26" y="156"/>
                </a:cubicBezTo>
                <a:cubicBezTo>
                  <a:pt x="15" y="124"/>
                  <a:pt x="0" y="82"/>
                  <a:pt x="32" y="54"/>
                </a:cubicBezTo>
                <a:cubicBezTo>
                  <a:pt x="48" y="40"/>
                  <a:pt x="68" y="30"/>
                  <a:pt x="86" y="18"/>
                </a:cubicBezTo>
                <a:cubicBezTo>
                  <a:pt x="97" y="11"/>
                  <a:pt x="110" y="10"/>
                  <a:pt x="122" y="6"/>
                </a:cubicBezTo>
                <a:cubicBezTo>
                  <a:pt x="128" y="4"/>
                  <a:pt x="140" y="0"/>
                  <a:pt x="140" y="0"/>
                </a:cubicBezTo>
                <a:cubicBezTo>
                  <a:pt x="187" y="5"/>
                  <a:pt x="226" y="15"/>
                  <a:pt x="272" y="24"/>
                </a:cubicBezTo>
                <a:cubicBezTo>
                  <a:pt x="369" y="16"/>
                  <a:pt x="445" y="10"/>
                  <a:pt x="548" y="6"/>
                </a:cubicBezTo>
                <a:cubicBezTo>
                  <a:pt x="628" y="14"/>
                  <a:pt x="709" y="19"/>
                  <a:pt x="788" y="30"/>
                </a:cubicBezTo>
                <a:cubicBezTo>
                  <a:pt x="886" y="23"/>
                  <a:pt x="935" y="19"/>
                  <a:pt x="1040" y="24"/>
                </a:cubicBezTo>
                <a:cubicBezTo>
                  <a:pt x="1062" y="39"/>
                  <a:pt x="1073" y="64"/>
                  <a:pt x="1082" y="90"/>
                </a:cubicBezTo>
                <a:cubicBezTo>
                  <a:pt x="1062" y="230"/>
                  <a:pt x="942" y="239"/>
                  <a:pt x="824" y="252"/>
                </a:cubicBezTo>
                <a:cubicBezTo>
                  <a:pt x="680" y="240"/>
                  <a:pt x="533" y="223"/>
                  <a:pt x="392" y="192"/>
                </a:cubicBezTo>
                <a:close/>
              </a:path>
            </a:pathLst>
          </a:custGeom>
          <a:noFill/>
          <a:ln w="28440">
            <a:solidFill>
              <a:srgbClr val="9191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248600" y="3076560"/>
            <a:ext cx="1085760" cy="409680"/>
          </a:xfrm>
          <a:custGeom>
            <a:avLst/>
            <a:gdLst/>
            <a:ahLst/>
            <a:rect l="l" t="t" r="r" b="b"/>
            <a:pathLst>
              <a:path w="684" h="258">
                <a:moveTo>
                  <a:pt x="0" y="258"/>
                </a:moveTo>
                <a:cubicBezTo>
                  <a:pt x="53" y="240"/>
                  <a:pt x="100" y="211"/>
                  <a:pt x="150" y="186"/>
                </a:cubicBezTo>
                <a:cubicBezTo>
                  <a:pt x="157" y="182"/>
                  <a:pt x="166" y="183"/>
                  <a:pt x="174" y="180"/>
                </a:cubicBezTo>
                <a:cubicBezTo>
                  <a:pt x="182" y="177"/>
                  <a:pt x="190" y="172"/>
                  <a:pt x="198" y="168"/>
                </a:cubicBezTo>
                <a:cubicBezTo>
                  <a:pt x="204" y="164"/>
                  <a:pt x="209" y="159"/>
                  <a:pt x="216" y="156"/>
                </a:cubicBezTo>
                <a:cubicBezTo>
                  <a:pt x="269" y="133"/>
                  <a:pt x="328" y="113"/>
                  <a:pt x="384" y="102"/>
                </a:cubicBezTo>
                <a:cubicBezTo>
                  <a:pt x="478" y="55"/>
                  <a:pt x="590" y="47"/>
                  <a:pt x="684" y="0"/>
                </a:cubicBezTo>
              </a:path>
            </a:pathLst>
          </a:custGeom>
          <a:noFill/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095960" y="3009960"/>
            <a:ext cx="1571760" cy="657000"/>
          </a:xfrm>
          <a:custGeom>
            <a:avLst/>
            <a:gdLst/>
            <a:ahLst/>
            <a:rect l="l" t="t" r="r" b="b"/>
            <a:pathLst>
              <a:path w="1008" h="432">
                <a:moveTo>
                  <a:pt x="1008" y="432"/>
                </a:moveTo>
                <a:lnTo>
                  <a:pt x="1008" y="0"/>
                </a:lnTo>
                <a:lnTo>
                  <a:pt x="0" y="0"/>
                </a:lnTo>
                <a:lnTo>
                  <a:pt x="0" y="432"/>
                </a:lnTo>
                <a:lnTo>
                  <a:pt x="1008" y="432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86760" y="2419200"/>
            <a:ext cx="1085760" cy="409680"/>
          </a:xfrm>
          <a:custGeom>
            <a:avLst/>
            <a:gdLst/>
            <a:ahLst/>
            <a:rect l="l" t="t" r="r" b="b"/>
            <a:pathLst>
              <a:path w="684" h="258">
                <a:moveTo>
                  <a:pt x="0" y="258"/>
                </a:moveTo>
                <a:cubicBezTo>
                  <a:pt x="53" y="240"/>
                  <a:pt x="100" y="211"/>
                  <a:pt x="150" y="186"/>
                </a:cubicBezTo>
                <a:cubicBezTo>
                  <a:pt x="157" y="182"/>
                  <a:pt x="166" y="183"/>
                  <a:pt x="174" y="180"/>
                </a:cubicBezTo>
                <a:cubicBezTo>
                  <a:pt x="182" y="177"/>
                  <a:pt x="190" y="172"/>
                  <a:pt x="198" y="168"/>
                </a:cubicBezTo>
                <a:cubicBezTo>
                  <a:pt x="204" y="164"/>
                  <a:pt x="209" y="159"/>
                  <a:pt x="216" y="156"/>
                </a:cubicBezTo>
                <a:cubicBezTo>
                  <a:pt x="269" y="133"/>
                  <a:pt x="328" y="113"/>
                  <a:pt x="384" y="102"/>
                </a:cubicBezTo>
                <a:cubicBezTo>
                  <a:pt x="478" y="55"/>
                  <a:pt x="590" y="47"/>
                  <a:pt x="684" y="0"/>
                </a:cubicBezTo>
              </a:path>
            </a:pathLst>
          </a:custGeom>
          <a:noFill/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095960" y="2390760"/>
            <a:ext cx="1571760" cy="657360"/>
          </a:xfrm>
          <a:custGeom>
            <a:avLst/>
            <a:gdLst/>
            <a:ahLst/>
            <a:rect l="l" t="t" r="r" b="b"/>
            <a:pathLst>
              <a:path w="1008" h="432">
                <a:moveTo>
                  <a:pt x="1008" y="432"/>
                </a:moveTo>
                <a:lnTo>
                  <a:pt x="1008" y="0"/>
                </a:lnTo>
                <a:lnTo>
                  <a:pt x="0" y="0"/>
                </a:lnTo>
                <a:lnTo>
                  <a:pt x="0" y="432"/>
                </a:lnTo>
                <a:lnTo>
                  <a:pt x="1008" y="432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15T10:27:04Z</dcterms:created>
  <dc:creator>Masood Masoodian</dc:creator>
  <dc:description/>
  <dc:language>en-US</dc:language>
  <cp:lastModifiedBy>masoodian</cp:lastModifiedBy>
  <cp:lastPrinted>2000-01-17T10:22:14Z</cp:lastPrinted>
  <dcterms:modified xsi:type="dcterms:W3CDTF">2000-04-06T02:19:38Z</dcterms:modified>
  <cp:revision>110</cp:revision>
  <dc:subject/>
  <dc:title>Lecture 2: Dynamic Memory Allocation</dc:title>
</cp:coreProperties>
</file>